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332-F1CA-4FFE-9362-1B0C293D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249-6B5E-46EA-AD22-354B7770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229-B89F-4210-AC83-41551E3A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F84E-ED0D-4ACA-9E9A-28FE2845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8948-A5B8-44C2-A6CB-A76E8837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DC01-F281-4952-BB5C-264B8096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A1DC-8B5F-4A50-8245-0558BC76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DD48-DBB0-4800-AA18-BD9B921B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D371-4A08-4574-AD4F-DF28F947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4C5E-CB8A-400B-91FE-7E2006DA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1495-B42F-4D91-A3A0-4DE89115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283-0186-4E2D-8070-20DB704A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83E8-4A4D-45CC-A447-E0AC0DFA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B1E0-BFC6-4CF1-8FFD-E9F93051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D0C0-9883-4895-8352-563B5DD3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B824-E1AD-4E3C-99A4-676B2125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9F73-898E-4669-B27C-223DE730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22E-06B1-4E56-ABF1-7510C8D2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8E1-D64D-48CB-B00F-5AF0D1A5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C2B-3BE0-4A34-8DBD-03713BA8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231-C984-45ED-A521-B72AA048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828-E185-4B62-B5B1-082149B0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C2D-20BD-4010-9DEC-3DECBAF4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871-F98F-43B5-B844-0C8C30BF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C435-292E-4DD6-BAA7-C02B4BFD8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525D-7604-4963-944C-541A615156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96880" y="1670040"/>
            <a:ext cx="80834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884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28+20=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20+23=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23+28=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23050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6880" cy="1262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39640" y="216072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научиться складывать двузначные числа с переходом в другой разряд .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963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4000" y="1413000"/>
            <a:ext cx="46083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1.  Оцениваю;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2. Нахожу выход из затруднения;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3. Закрепляю;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4. Решаю самостоятельно;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5.  Ставлю цель.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5219640" y="1484280"/>
            <a:ext cx="3600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5003640" y="1484280"/>
            <a:ext cx="374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  <a:ea typeface="Times New Roman"/>
              </a:rPr>
              <a:t>Ставлю ц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  <a:ea typeface="Times New Roman"/>
              </a:rPr>
              <a:t>Нахожу выход из затрудн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  <a:ea typeface="Times New Roman"/>
              </a:rPr>
              <a:t>Закрепля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  <a:ea typeface="Times New Roman"/>
              </a:rPr>
              <a:t>Решаю самостояте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  <a:ea typeface="Times New Roman"/>
              </a:rPr>
              <a:t>Оценив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5406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amond(in)" transition="out">
                                      <p:cBhvr additive="repl">
                                        <p:cTn id="3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96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1 Вариант                                     2 вариант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35+16=51                                      78+14=92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34332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5148360" y="2852640"/>
            <a:ext cx="33177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963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1)  В Алтайском крае 51 памятник природы и 35 заказников. Сколько памятников и заказников всего?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2) В Алтайском крае 12 городов,  а сельских районов на 47 больше. Сколько всего населенных пунктов?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7:23:27Z</dcterms:created>
  <dc:creator>Comp</dc:creator>
  <dc:description/>
  <dc:language>en-US</dc:language>
  <cp:lastModifiedBy>Rulezzzz</cp:lastModifiedBy>
  <dcterms:modified xsi:type="dcterms:W3CDTF">2018-11-07T16:42:16Z</dcterms:modified>
  <cp:revision>24</cp:revision>
  <dc:subject/>
  <dc:title>Слайд 1</dc:title>
</cp:coreProperties>
</file>