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move the slide</a:t>
            </a:r>
            <a:endParaRPr b="1" lang="en-US" sz="3600" spc="-1" strike="noStrike">
              <a:solidFill>
                <a:srgbClr val="ffffff"/>
              </a:solidFill>
              <a:latin typeface="Georgia"/>
            </a:endParaRPr>
          </a:p>
        </p:txBody>
      </p:sp>
      <p:sp>
        <p:nvSpPr>
          <p:cNvPr id="6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5918-8BBD-4025-AC6A-D4B65568138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962-6DA1-49C0-BAC8-1D95197212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закрепить умение решать задачи на разрезани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6C809-E527-463A-A825-A6C8CB6FC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1155-64F5-4E23-910F-346FAB33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3B30BE-E3D0-4521-808F-A415AAB32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DED8F-20D8-4315-AAA5-F9E97DE6C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2AD89-7E97-4A88-BBF2-8431FAAE3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DA407-78A2-4939-8AA1-702C87A87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AFC13-8D95-4D23-BBE5-55F3346F2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2345D-24C2-4594-B7B6-323E94763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8B537-E06F-4068-A032-2D203DAE8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CE11D3-5102-4EBA-91E9-6C657B4F2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80B83-A96B-4310-A90A-7698F46668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3605A7-9105-4368-B9C7-269525929A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B2CAB-86BC-4E38-87EF-4B5C4E1CD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D747FB-5AD9-4682-859E-0264716C6A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52C368-478D-4B53-87E0-F9AD47BEC3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57F4DC-0231-418A-A542-9BED5F46C1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59CB19-F963-48B2-9108-C76C8706C0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744E4B-34B8-4FD4-8B0B-71C5620756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86639-4560-47F3-9052-3D1D76B3A0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5C357C-7934-41BD-BDA6-5FAF40240E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FBC79-1549-4F4B-B808-0A3C6FD22C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C324C1-667E-4C4E-BA3B-C69A56A05B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F082BF-0E57-42A9-8CBB-0CE3BFFB62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8ECB8-2EB4-4603-B105-E6E193721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7BE046-8264-47F8-B0CE-B109250E09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FE7395-5027-426A-B761-468A0FFB61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D646A5-8BA2-49E1-84EA-9082EEDDA7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D67AA4-D6FA-4405-AEC0-7631CCA329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78D9A8-7718-486F-A3EF-2F2CBCB05C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CD4574-D0A2-41F6-BFC5-05CA4E46F5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3F66CF-8B7D-4735-A856-092E137A6D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8202E5-0107-4467-AE20-0799F97669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F58B51-A6CA-42FF-B1AC-B0C8B37717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AE92BF-8A23-4C11-8F45-F375765160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033A0-ADCF-4DC3-B4FD-4811CF278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92D74F-C44D-44BC-AD0F-6F428E1E2D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08349E-1A7D-404E-AC5A-AD2B552EFA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A3A7E0-3C53-4F72-B19E-9E5C3E174D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9CBD44-C7AB-418B-BE37-AAC28C2DEE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F6EA80-0AA1-4209-ABB0-BB03A494E5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3297B6-06A8-486A-8F18-74C2E65DC5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FD6A4B-6AD3-460E-ABB3-3707F65C8E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F5A754-4DEA-4A02-911D-0CFF3ECDE6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8AAFE1-2C66-4AEF-9194-58AAF49133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9EE3C3-C9C8-4621-AF2D-84BFB46A5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B3FFF-A93A-4D6A-B5B4-AC1FA2778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E8B1F2-7A7B-4C55-87C7-38A906D4A8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694585-B4AC-468C-B60E-0F5D796E1E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3F22E4-F8C5-44CB-905D-7990F1C21F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FE9E3E-50B6-4F80-BA41-980F82E3C3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06AC14-1DD3-4AFA-942A-DF8E8B38DE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ADD6D0-A60D-47EE-A90F-50326A7D19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8812E1-689E-4309-AE93-AE1DFF0D67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C67478-092B-4E24-A7E2-6456B6E5E6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BFA230-3A32-47DA-98CF-22A07F7139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F88EBA-D9B8-4159-B3E0-8E2CAF2501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55666-E71C-4719-A309-3B8E546C3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55446A-F23C-4898-800D-075AB4ECC9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634D98-64F7-4537-9266-C1C296FC6D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CE7898-D593-403B-872F-B6D1E38DB7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CF6FB-277C-4B11-ABFD-C11A6F1A6A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110C90-B091-4353-B3AA-224800CC30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00723B-FB54-49F6-A0F1-B50E488348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9D9EB9-5174-4E9F-8B93-4012B19EBD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72779-8E5C-4DB6-B8BE-428CB3622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DE5FD-2936-4B00-A691-724B39B19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47FDD-34D3-4D63-AEC4-E22F6303F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D25D-2A94-4ACD-98C7-BF127823A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3B76-07CD-43FB-AFF4-7B4881DE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B7B61-D55C-49F7-AF60-992ACABEA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EE169-8636-4232-A30D-400BC81D7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88D95-8AB1-406F-9F4B-C781A0BAB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C240D-0C9C-4884-ADD1-9E86B9615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B25C1-67F2-4B83-B2E4-37B2B7543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5EE5C9-ADA5-4417-B5E2-D0F71E6D1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4C426-9CA3-4FB0-92CD-0DA321C25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6AD55-0683-4085-BB2D-1EAF67819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1F267-3644-45DF-A1DF-BF6E22C41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89CA6-B5B4-493A-9412-FDCE2F7DF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9429-753F-43E5-AED2-2CD0695C7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66319-9820-4D5C-BCD4-DD9EB8B3F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5AFF4-F5E8-43F9-A59E-FA4FA44B0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52406-4443-465A-9391-A30000964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4F1DF-F83B-48D5-9EBF-E605E4C03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92F3C-3935-409F-A8FD-1FF509F8C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DBF13-8D09-41F4-AE87-FFE0E7CB5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A680CF-C3A5-4E7C-8CB6-CB4926BF3E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C0FCDB-3FEE-46F1-86D4-042AFE9A7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79797-F0F8-4EF4-949D-30530B1EA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FC01B-DBEF-4B05-9EFE-A07DADC879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12BD-C15B-4486-B2E2-DEFE5F0C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86EA5-AC4B-400B-A3DD-E85199465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ACA64-B181-43CA-A7AB-9C00D492C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E4751-E307-4C9E-AA49-23C17FB8F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8A8D0-6334-4764-BFAF-5E936EFE2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E977C-6A4F-4EEE-BFA4-1AB78DC80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3ACA3-DBA2-46D9-80DF-C443E1D74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6089F-6270-45CA-88DA-C9C2DEFB1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4D266D-FB23-4FC6-A294-96CC5DB1C2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6FFC6B-9E4D-47F9-9F01-2D2E37457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C4BA19-5718-42AC-87EE-F87A1B1C75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C6E43-4C34-41EA-AF03-7E02E262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DAA99-B148-48DA-B24C-3EEC33637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69F2F-491D-4325-A0CC-E4D0DA6FE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28142-2F78-4423-B4BD-F211C2FE46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416F1-D507-4B7C-AA05-5646F3173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EADA93-B93A-490B-8626-57B8AD434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907E6-46E5-4A39-9E56-E0D74B870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3E17F-02B8-40E9-AFC9-F662AAC0D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1F903-9C66-49F9-B6B9-F95A7FB95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5BB65-7C07-4102-A79D-EB462D646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76A913-C645-4A55-BE8B-AC2F744C8E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DDD5D-17E8-496B-81F6-0367B19E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9C0D95-682D-4F76-A09F-C7EE0ADDA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C20733-5650-4D6F-8B31-7DD1D780E7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3F1D4-F824-4DEF-B0DB-E93B3E357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0AF38-D097-477C-826C-D3A11CECD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094F5-814E-4740-A7C5-FF92E6D59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866D7-9075-4DAA-85F2-67C60323B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45910-FDBF-445F-8790-9A59B37EA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E9BBB-AD20-44EF-836E-FE1440735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966C1-DA52-49D8-A511-A94F7491B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84FC9-19D8-4DEB-BA04-F5195442A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F965-9E57-4BA3-BFC1-0E073F17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E97833-67E4-4C8B-9C9E-287802D6A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E6D3B-A029-466E-97A0-1F906633A9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98312-9732-4B7D-95AD-19954033C5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51C794-3E3A-455F-A090-404A8DBAD0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66E26A-EEFD-4068-9B67-4848B3FED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EF9B1-65CE-47EF-A4B6-E64A233DB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845CE-EEB9-4A3E-9D79-12F7AC966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F19B9-3DC2-4480-AFDA-BD59D19D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358AF-BD8B-4D4C-99BF-4166F3101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09456-9488-45C4-B4D3-077F99A99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3C44-1BEB-493D-92DA-A06EEFB1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FDBF4-E14B-461D-B47C-137B72F8E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79C44-5453-4E4F-B179-E265F577B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C46C0-FF86-4A74-B4E5-60BFBD5E2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72DD34-3FC5-417B-B649-402CEB733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20A74C-C735-4866-8174-8BB69417C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2E06D1-F442-4D45-B816-CB0BF1550F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190A10-50DF-49CF-9AAE-4063FD32F9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C3614-521F-4A8C-BE21-9C6D2444D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89C8A3-46D4-4C6F-9BAD-43D8E1AC48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CDD43A-B62F-4C20-8476-23D907B32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1BAE-229D-4584-9172-D838AA4A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4D7ECB-793D-4B44-B4F0-29B458CC9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C6498-20D4-4BC9-9E35-7C7C37EEC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7F242-78BE-47B8-B335-D019CE8807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50105-6ABB-482B-93AF-EA93BAE1D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9A1D0-E454-48E9-96CC-3CC16D059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88DA0-25A1-415E-86DF-9EB93A1071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968C27-B251-4D87-BDC3-CC2DAA8513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359150-FB9E-4AB5-9114-8BB0D63C5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91A779-B1CA-4C4B-BE3F-F18852F1A6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Georgia"/>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F467E4-1300-41A3-9736-CFD29BD361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0" y="0"/>
            <a:ext cx="9153360" cy="1862280"/>
          </a:xfrm>
          <a:custGeom>
            <a:avLst/>
            <a:gdLst/>
            <a:ahLst/>
            <a:rect l="l" t="t" r="r" b="b"/>
            <a:pathLst>
              <a:path w="9153196" h="1862136">
                <a:moveTo>
                  <a:pt x="52" y="1284"/>
                </a:moveTo>
                <a:cubicBezTo>
                  <a:pt x="35" y="491948"/>
                  <a:pt x="17" y="1371472"/>
                  <a:pt x="0" y="1862136"/>
                </a:cubicBezTo>
                <a:cubicBezTo>
                  <a:pt x="304800" y="1706688"/>
                  <a:pt x="1952287" y="1117060"/>
                  <a:pt x="2999284" y="1051560"/>
                </a:cubicBezTo>
                <a:cubicBezTo>
                  <a:pt x="4046281" y="986060"/>
                  <a:pt x="5541316" y="1353820"/>
                  <a:pt x="6281980" y="1469136"/>
                </a:cubicBezTo>
                <a:cubicBezTo>
                  <a:pt x="7022644" y="1584452"/>
                  <a:pt x="8247940" y="1834896"/>
                  <a:pt x="9144052" y="1487424"/>
                </a:cubicBezTo>
                <a:lnTo>
                  <a:pt x="9153196" y="0"/>
                </a:ln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0" y="0"/>
            <a:ext cx="9153360" cy="1481040"/>
          </a:xfrm>
          <a:custGeom>
            <a:avLst/>
            <a:gdLst/>
            <a:ahLst/>
            <a:rect l="l" t="t" r="r" b="b"/>
            <a:pathLst>
              <a:path w="9153196" h="1481136">
                <a:moveTo>
                  <a:pt x="52" y="1284"/>
                </a:moveTo>
                <a:cubicBezTo>
                  <a:pt x="35" y="491948"/>
                  <a:pt x="17" y="990472"/>
                  <a:pt x="0" y="1481136"/>
                </a:cubicBezTo>
                <a:cubicBezTo>
                  <a:pt x="414528" y="1319592"/>
                  <a:pt x="1857799" y="987520"/>
                  <a:pt x="2980996" y="960120"/>
                </a:cubicBezTo>
                <a:cubicBezTo>
                  <a:pt x="4104193" y="932720"/>
                  <a:pt x="6019852" y="1271016"/>
                  <a:pt x="6739180" y="1316736"/>
                </a:cubicBezTo>
                <a:cubicBezTo>
                  <a:pt x="7458508" y="1362456"/>
                  <a:pt x="8247940" y="1453896"/>
                  <a:pt x="9144052" y="1106424"/>
                </a:cubicBezTo>
                <a:lnTo>
                  <a:pt x="9153196" y="0"/>
                </a:lnTo>
                <a:lnTo>
                  <a:pt x="52" y="1284"/>
                </a:lnTo>
                <a:close/>
              </a:path>
            </a:pathLst>
          </a:custGeom>
          <a:gradFill rotWithShape="0">
            <a:gsLst>
              <a:gs pos="0">
                <a:srgbClr val="0b5395">
                  <a:alpha val="69019"/>
                </a:srgbClr>
              </a:gs>
              <a:gs pos="100000">
                <a:srgbClr val="0f6fc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3" name="PlaceHolder 2"/>
          <p:cNvSpPr>
            <a:spLocks noGrp="1"/>
          </p:cNvSpPr>
          <p:nvPr>
            <p:ph type="dt" idx="1"/>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67A8-7968-4585-8495-3A4ED5A4A89B}"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2" name="Group 7"/>
          <p:cNvGrpSpPr/>
          <p:nvPr/>
        </p:nvGrpSpPr>
        <p:grpSpPr>
          <a:xfrm>
            <a:off x="0" y="-7200"/>
            <a:ext cx="1104840" cy="6891840"/>
            <a:chOff x="0" y="-7200"/>
            <a:chExt cx="1104840" cy="6891840"/>
          </a:xfrm>
        </p:grpSpPr>
        <p:sp>
          <p:nvSpPr>
            <p:cNvPr id="453" name="Freeform 8"/>
            <p:cNvSpPr/>
            <p:nvPr/>
          </p:nvSpPr>
          <p:spPr>
            <a:xfrm rot="16200000">
              <a:off x="-2887560" y="2882160"/>
              <a:ext cx="6882120" cy="1103400"/>
            </a:xfrm>
            <a:custGeom>
              <a:avLst/>
              <a:gdLst/>
              <a:ahLst/>
              <a:rect l="l" t="t" r="r" b="b"/>
              <a:pathLst>
                <a:path w="9176990" h="1489619">
                  <a:moveTo>
                    <a:pt x="18502" y="1284"/>
                  </a:moveTo>
                  <a:cubicBezTo>
                    <a:pt x="18485" y="491948"/>
                    <a:pt x="17" y="998955"/>
                    <a:pt x="0" y="1489619"/>
                  </a:cubicBezTo>
                  <a:cubicBezTo>
                    <a:pt x="304800" y="1334171"/>
                    <a:pt x="2076793" y="572593"/>
                    <a:pt x="3209344" y="515274"/>
                  </a:cubicBezTo>
                  <a:cubicBezTo>
                    <a:pt x="4341895" y="457955"/>
                    <a:pt x="5743827" y="772070"/>
                    <a:pt x="6307596" y="941158"/>
                  </a:cubicBezTo>
                  <a:cubicBezTo>
                    <a:pt x="6871365" y="1110246"/>
                    <a:pt x="8191884" y="1377605"/>
                    <a:pt x="9174801" y="1061875"/>
                  </a:cubicBezTo>
                  <a:cubicBezTo>
                    <a:pt x="9176990" y="769267"/>
                    <a:pt x="9166881" y="292608"/>
                    <a:pt x="9169070" y="0"/>
                  </a:cubicBezTo>
                  <a:lnTo>
                    <a:pt x="1850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Freeform 9"/>
            <p:cNvSpPr/>
            <p:nvPr/>
          </p:nvSpPr>
          <p:spPr>
            <a:xfrm rot="16200000">
              <a:off x="-2889000" y="2912400"/>
              <a:ext cx="6861600" cy="1082880"/>
            </a:xfrm>
            <a:custGeom>
              <a:avLst/>
              <a:gdLst/>
              <a:ahLst/>
              <a:rect l="l" t="t" r="r" b="b"/>
              <a:pathLst>
                <a:path w="9142471" h="1874582">
                  <a:moveTo>
                    <a:pt x="790" y="1971"/>
                  </a:moveTo>
                  <a:cubicBezTo>
                    <a:pt x="0" y="305263"/>
                    <a:pt x="5358" y="838040"/>
                    <a:pt x="4568" y="1141332"/>
                  </a:cubicBezTo>
                  <a:cubicBezTo>
                    <a:pt x="419096" y="979788"/>
                    <a:pt x="1492070" y="639683"/>
                    <a:pt x="3162539" y="482994"/>
                  </a:cubicBezTo>
                  <a:cubicBezTo>
                    <a:pt x="4833008" y="326305"/>
                    <a:pt x="7747892" y="1874582"/>
                    <a:pt x="9142471" y="825067"/>
                  </a:cubicBezTo>
                  <a:cubicBezTo>
                    <a:pt x="9142170" y="646022"/>
                    <a:pt x="9141870" y="179045"/>
                    <a:pt x="9141569" y="0"/>
                  </a:cubicBezTo>
                  <a:lnTo>
                    <a:pt x="790"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5" name="Oval 10"/>
          <p:cNvGrpSpPr/>
          <p:nvPr/>
        </p:nvGrpSpPr>
        <p:grpSpPr>
          <a:xfrm>
            <a:off x="6858000" y="3889440"/>
            <a:ext cx="762120" cy="755640"/>
            <a:chOff x="6858000" y="3889440"/>
            <a:chExt cx="762120" cy="755640"/>
          </a:xfrm>
        </p:grpSpPr>
        <p:pic>
          <p:nvPicPr>
            <p:cNvPr id="456" name="Oval 10" descr=""/>
            <p:cNvPicPr/>
            <p:nvPr/>
          </p:nvPicPr>
          <p:blipFill>
            <a:blip r:embed="rId2"/>
            <a:stretch/>
          </p:blipFill>
          <p:spPr>
            <a:xfrm>
              <a:off x="6858000" y="3889440"/>
              <a:ext cx="762120" cy="755640"/>
            </a:xfrm>
            <a:prstGeom prst="rect">
              <a:avLst/>
            </a:prstGeom>
            <a:ln w="0">
              <a:noFill/>
            </a:ln>
          </p:spPr>
        </p:pic>
        <p:sp>
          <p:nvSpPr>
            <p:cNvPr id="457" name=""/>
            <p:cNvSpPr/>
            <p:nvPr/>
          </p:nvSpPr>
          <p:spPr>
            <a:xfrm>
              <a:off x="6969240" y="3997440"/>
              <a:ext cx="5364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Oval 11"/>
          <p:cNvGrpSpPr/>
          <p:nvPr/>
        </p:nvGrpSpPr>
        <p:grpSpPr>
          <a:xfrm>
            <a:off x="5791320" y="4572000"/>
            <a:ext cx="384120" cy="384120"/>
            <a:chOff x="5791320" y="4572000"/>
            <a:chExt cx="384120" cy="384120"/>
          </a:xfrm>
        </p:grpSpPr>
        <p:pic>
          <p:nvPicPr>
            <p:cNvPr id="459" name="Oval 11" descr=""/>
            <p:cNvPicPr/>
            <p:nvPr/>
          </p:nvPicPr>
          <p:blipFill>
            <a:blip r:embed="rId3"/>
            <a:stretch/>
          </p:blipFill>
          <p:spPr>
            <a:xfrm>
              <a:off x="5791320" y="4572000"/>
              <a:ext cx="384120" cy="384120"/>
            </a:xfrm>
            <a:prstGeom prst="rect">
              <a:avLst/>
            </a:prstGeom>
            <a:ln w="0">
              <a:noFill/>
            </a:ln>
          </p:spPr>
        </p:pic>
        <p:sp>
          <p:nvSpPr>
            <p:cNvPr id="460" name=""/>
            <p:cNvSpPr/>
            <p:nvPr/>
          </p:nvSpPr>
          <p:spPr>
            <a:xfrm>
              <a:off x="5845320" y="462744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Oval 12"/>
          <p:cNvGrpSpPr/>
          <p:nvPr/>
        </p:nvGrpSpPr>
        <p:grpSpPr>
          <a:xfrm>
            <a:off x="1219320" y="384120"/>
            <a:ext cx="731880" cy="731880"/>
            <a:chOff x="1219320" y="384120"/>
            <a:chExt cx="731880" cy="731880"/>
          </a:xfrm>
        </p:grpSpPr>
        <p:pic>
          <p:nvPicPr>
            <p:cNvPr id="462" name="Oval 12" descr=""/>
            <p:cNvPicPr/>
            <p:nvPr/>
          </p:nvPicPr>
          <p:blipFill>
            <a:blip r:embed="rId4"/>
            <a:stretch/>
          </p:blipFill>
          <p:spPr>
            <a:xfrm>
              <a:off x="1219320" y="384120"/>
              <a:ext cx="731880" cy="731880"/>
            </a:xfrm>
            <a:prstGeom prst="rect">
              <a:avLst/>
            </a:prstGeom>
            <a:ln w="0">
              <a:noFill/>
            </a:ln>
          </p:spPr>
        </p:pic>
        <p:sp>
          <p:nvSpPr>
            <p:cNvPr id="463" name=""/>
            <p:cNvSpPr/>
            <p:nvPr/>
          </p:nvSpPr>
          <p:spPr>
            <a:xfrm>
              <a:off x="1324080" y="490680"/>
              <a:ext cx="5158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66" name="PlaceHolder 3"/>
          <p:cNvSpPr>
            <a:spLocks noGrp="1"/>
          </p:cNvSpPr>
          <p:nvPr>
            <p:ph type="dt" idx="28"/>
          </p:nvPr>
        </p:nvSpPr>
        <p:spPr>
          <a:xfrm>
            <a:off x="9140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4"/>
          <p:cNvSpPr>
            <a:spLocks noGrp="1"/>
          </p:cNvSpPr>
          <p:nvPr>
            <p:ph type="ftr" idx="29"/>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3DF3-093F-40F9-B900-6650C9AB5E3E}"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Freeform 7"/>
          <p:cNvSpPr/>
          <p:nvPr/>
        </p:nvSpPr>
        <p:spPr>
          <a:xfrm>
            <a:off x="0" y="0"/>
            <a:ext cx="9150480" cy="1281240"/>
          </a:xfrm>
          <a:custGeom>
            <a:avLst/>
            <a:gdLst/>
            <a:ahLst/>
            <a:rect l="l" t="t" r="r" b="b"/>
            <a:pathLst>
              <a:path w="9150620" h="1470041">
                <a:moveTo>
                  <a:pt x="52" y="1284"/>
                </a:moveTo>
                <a:cubicBezTo>
                  <a:pt x="35" y="491948"/>
                  <a:pt x="17" y="761872"/>
                  <a:pt x="0" y="1252536"/>
                </a:cubicBezTo>
                <a:cubicBezTo>
                  <a:pt x="304800" y="1097088"/>
                  <a:pt x="1803165" y="328826"/>
                  <a:pt x="3622738" y="425264"/>
                </a:cubicBezTo>
                <a:cubicBezTo>
                  <a:pt x="5442311" y="521702"/>
                  <a:pt x="6970396" y="1470041"/>
                  <a:pt x="9144052" y="877824"/>
                </a:cubicBezTo>
                <a:cubicBezTo>
                  <a:pt x="9146241" y="585216"/>
                  <a:pt x="9148431" y="292608"/>
                  <a:pt x="9150620" y="0"/>
                </a:cubicBez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Freeform 8"/>
          <p:cNvSpPr/>
          <p:nvPr/>
        </p:nvSpPr>
        <p:spPr>
          <a:xfrm>
            <a:off x="0" y="-1440"/>
            <a:ext cx="9144000" cy="1093680"/>
          </a:xfrm>
          <a:custGeom>
            <a:avLst/>
            <a:gdLst/>
            <a:ahLst/>
            <a:rect l="l" t="t" r="r" b="b"/>
            <a:pathLst>
              <a:path w="9144052" h="1282732">
                <a:moveTo>
                  <a:pt x="2371" y="1971"/>
                </a:moveTo>
                <a:cubicBezTo>
                  <a:pt x="1581" y="305263"/>
                  <a:pt x="790" y="446133"/>
                  <a:pt x="0" y="749425"/>
                </a:cubicBezTo>
                <a:cubicBezTo>
                  <a:pt x="414528" y="587881"/>
                  <a:pt x="1394642" y="355830"/>
                  <a:pt x="3114923" y="315034"/>
                </a:cubicBezTo>
                <a:cubicBezTo>
                  <a:pt x="4835204" y="274238"/>
                  <a:pt x="7500499" y="1282732"/>
                  <a:pt x="9144052" y="537135"/>
                </a:cubicBezTo>
                <a:cubicBezTo>
                  <a:pt x="9143751" y="358090"/>
                  <a:pt x="9143451" y="179045"/>
                  <a:pt x="9143150" y="0"/>
                </a:cubicBezTo>
                <a:lnTo>
                  <a:pt x="2371"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7" name="Oval 9"/>
          <p:cNvGrpSpPr/>
          <p:nvPr/>
        </p:nvGrpSpPr>
        <p:grpSpPr>
          <a:xfrm>
            <a:off x="8077320" y="384120"/>
            <a:ext cx="755640" cy="762120"/>
            <a:chOff x="8077320" y="384120"/>
            <a:chExt cx="755640" cy="762120"/>
          </a:xfrm>
        </p:grpSpPr>
        <p:pic>
          <p:nvPicPr>
            <p:cNvPr id="508" name="Oval 9" descr=""/>
            <p:cNvPicPr/>
            <p:nvPr/>
          </p:nvPicPr>
          <p:blipFill>
            <a:blip r:embed="rId2"/>
            <a:stretch/>
          </p:blipFill>
          <p:spPr>
            <a:xfrm>
              <a:off x="8077320" y="384120"/>
              <a:ext cx="755640" cy="762120"/>
            </a:xfrm>
            <a:prstGeom prst="rect">
              <a:avLst/>
            </a:prstGeom>
            <a:ln w="0">
              <a:noFill/>
            </a:ln>
          </p:spPr>
        </p:pic>
        <p:sp>
          <p:nvSpPr>
            <p:cNvPr id="509" name=""/>
            <p:cNvSpPr/>
            <p:nvPr/>
          </p:nvSpPr>
          <p:spPr>
            <a:xfrm>
              <a:off x="8185320" y="495360"/>
              <a:ext cx="5364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Oval 10"/>
          <p:cNvGrpSpPr/>
          <p:nvPr/>
        </p:nvGrpSpPr>
        <p:grpSpPr>
          <a:xfrm>
            <a:off x="7497720" y="433440"/>
            <a:ext cx="384120" cy="384120"/>
            <a:chOff x="7497720" y="433440"/>
            <a:chExt cx="384120" cy="384120"/>
          </a:xfrm>
        </p:grpSpPr>
        <p:pic>
          <p:nvPicPr>
            <p:cNvPr id="511" name="Oval 10" descr=""/>
            <p:cNvPicPr/>
            <p:nvPr/>
          </p:nvPicPr>
          <p:blipFill>
            <a:blip r:embed="rId3"/>
            <a:stretch/>
          </p:blipFill>
          <p:spPr>
            <a:xfrm>
              <a:off x="7497720" y="433440"/>
              <a:ext cx="384120" cy="384120"/>
            </a:xfrm>
            <a:prstGeom prst="rect">
              <a:avLst/>
            </a:prstGeom>
            <a:ln w="0">
              <a:noFill/>
            </a:ln>
          </p:spPr>
        </p:pic>
        <p:sp>
          <p:nvSpPr>
            <p:cNvPr id="512" name=""/>
            <p:cNvSpPr/>
            <p:nvPr/>
          </p:nvSpPr>
          <p:spPr>
            <a:xfrm>
              <a:off x="7554960" y="48564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 name="Oval 11"/>
          <p:cNvGrpSpPr/>
          <p:nvPr/>
        </p:nvGrpSpPr>
        <p:grpSpPr>
          <a:xfrm>
            <a:off x="212760" y="212760"/>
            <a:ext cx="830160" cy="830160"/>
            <a:chOff x="212760" y="212760"/>
            <a:chExt cx="830160" cy="830160"/>
          </a:xfrm>
        </p:grpSpPr>
        <p:pic>
          <p:nvPicPr>
            <p:cNvPr id="514" name="Oval 11" descr=""/>
            <p:cNvPicPr/>
            <p:nvPr/>
          </p:nvPicPr>
          <p:blipFill>
            <a:blip r:embed="rId4"/>
            <a:stretch/>
          </p:blipFill>
          <p:spPr>
            <a:xfrm>
              <a:off x="212760" y="212760"/>
              <a:ext cx="830160" cy="830160"/>
            </a:xfrm>
            <a:prstGeom prst="rect">
              <a:avLst/>
            </a:prstGeom>
            <a:ln w="0">
              <a:noFill/>
            </a:ln>
          </p:spPr>
        </p:pic>
        <p:sp>
          <p:nvSpPr>
            <p:cNvPr id="515" name=""/>
            <p:cNvSpPr/>
            <p:nvPr/>
          </p:nvSpPr>
          <p:spPr>
            <a:xfrm>
              <a:off x="331920" y="331920"/>
              <a:ext cx="588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518" name="PlaceHolder 3"/>
          <p:cNvSpPr>
            <a:spLocks noGrp="1"/>
          </p:cNvSpPr>
          <p:nvPr>
            <p:ph type="dt" idx="31"/>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2"/>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3"/>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E818-C2EA-49CB-9C14-9DAE5F065D23}"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Freeform 7"/>
          <p:cNvSpPr/>
          <p:nvPr/>
        </p:nvSpPr>
        <p:spPr>
          <a:xfrm flipV="1">
            <a:off x="0" y="5590080"/>
            <a:ext cx="9150480" cy="1281240"/>
          </a:xfrm>
          <a:custGeom>
            <a:avLst/>
            <a:gdLst/>
            <a:ahLst/>
            <a:rect l="l" t="t" r="r" b="b"/>
            <a:pathLst>
              <a:path w="9150620" h="1470041">
                <a:moveTo>
                  <a:pt x="52" y="1284"/>
                </a:moveTo>
                <a:cubicBezTo>
                  <a:pt x="35" y="491948"/>
                  <a:pt x="17" y="761872"/>
                  <a:pt x="0" y="1252536"/>
                </a:cubicBezTo>
                <a:cubicBezTo>
                  <a:pt x="304800" y="1097088"/>
                  <a:pt x="1803165" y="328826"/>
                  <a:pt x="3622738" y="425264"/>
                </a:cubicBezTo>
                <a:cubicBezTo>
                  <a:pt x="5442311" y="521702"/>
                  <a:pt x="6970396" y="1470041"/>
                  <a:pt x="9144052" y="877824"/>
                </a:cubicBezTo>
                <a:cubicBezTo>
                  <a:pt x="9146241" y="585216"/>
                  <a:pt x="9148431" y="292608"/>
                  <a:pt x="9150620" y="0"/>
                </a:cubicBez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Freeform 8"/>
          <p:cNvSpPr/>
          <p:nvPr/>
        </p:nvSpPr>
        <p:spPr>
          <a:xfrm flipV="1">
            <a:off x="0" y="5779800"/>
            <a:ext cx="9144000" cy="1093680"/>
          </a:xfrm>
          <a:custGeom>
            <a:avLst/>
            <a:gdLst/>
            <a:ahLst/>
            <a:rect l="l" t="t" r="r" b="b"/>
            <a:pathLst>
              <a:path w="9144052" h="1282732">
                <a:moveTo>
                  <a:pt x="2371" y="1971"/>
                </a:moveTo>
                <a:cubicBezTo>
                  <a:pt x="1581" y="305263"/>
                  <a:pt x="790" y="446133"/>
                  <a:pt x="0" y="749425"/>
                </a:cubicBezTo>
                <a:cubicBezTo>
                  <a:pt x="414528" y="587881"/>
                  <a:pt x="1394642" y="355830"/>
                  <a:pt x="3114923" y="315034"/>
                </a:cubicBezTo>
                <a:cubicBezTo>
                  <a:pt x="4835204" y="274238"/>
                  <a:pt x="7500499" y="1282732"/>
                  <a:pt x="9144052" y="537135"/>
                </a:cubicBezTo>
                <a:cubicBezTo>
                  <a:pt x="9143751" y="358090"/>
                  <a:pt x="9143451" y="179045"/>
                  <a:pt x="9143150" y="0"/>
                </a:cubicBezTo>
                <a:lnTo>
                  <a:pt x="2371"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9" name="Oval 9"/>
          <p:cNvGrpSpPr/>
          <p:nvPr/>
        </p:nvGrpSpPr>
        <p:grpSpPr>
          <a:xfrm>
            <a:off x="8150400" y="5645160"/>
            <a:ext cx="755640" cy="755640"/>
            <a:chOff x="8150400" y="5645160"/>
            <a:chExt cx="755640" cy="755640"/>
          </a:xfrm>
        </p:grpSpPr>
        <p:pic>
          <p:nvPicPr>
            <p:cNvPr id="560" name="Oval 9" descr=""/>
            <p:cNvPicPr/>
            <p:nvPr/>
          </p:nvPicPr>
          <p:blipFill>
            <a:blip r:embed="rId2"/>
            <a:stretch/>
          </p:blipFill>
          <p:spPr>
            <a:xfrm>
              <a:off x="8150400" y="5645160"/>
              <a:ext cx="755640" cy="755640"/>
            </a:xfrm>
            <a:prstGeom prst="rect">
              <a:avLst/>
            </a:prstGeom>
            <a:ln w="0">
              <a:noFill/>
            </a:ln>
          </p:spPr>
        </p:pic>
        <p:sp>
          <p:nvSpPr>
            <p:cNvPr id="561" name=""/>
            <p:cNvSpPr/>
            <p:nvPr/>
          </p:nvSpPr>
          <p:spPr>
            <a:xfrm>
              <a:off x="8258040" y="5753160"/>
              <a:ext cx="53676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2" name="Oval 10"/>
          <p:cNvGrpSpPr/>
          <p:nvPr/>
        </p:nvGrpSpPr>
        <p:grpSpPr>
          <a:xfrm>
            <a:off x="8643960" y="5211720"/>
            <a:ext cx="384120" cy="384120"/>
            <a:chOff x="8643960" y="5211720"/>
            <a:chExt cx="384120" cy="384120"/>
          </a:xfrm>
        </p:grpSpPr>
        <p:pic>
          <p:nvPicPr>
            <p:cNvPr id="563" name="Oval 10" descr=""/>
            <p:cNvPicPr/>
            <p:nvPr/>
          </p:nvPicPr>
          <p:blipFill>
            <a:blip r:embed="rId3"/>
            <a:stretch/>
          </p:blipFill>
          <p:spPr>
            <a:xfrm>
              <a:off x="8643960" y="5211720"/>
              <a:ext cx="384120" cy="384120"/>
            </a:xfrm>
            <a:prstGeom prst="rect">
              <a:avLst/>
            </a:prstGeom>
            <a:ln w="0">
              <a:noFill/>
            </a:ln>
          </p:spPr>
        </p:pic>
        <p:sp>
          <p:nvSpPr>
            <p:cNvPr id="564" name=""/>
            <p:cNvSpPr/>
            <p:nvPr/>
          </p:nvSpPr>
          <p:spPr>
            <a:xfrm>
              <a:off x="8697960" y="526896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5" name="Oval 11"/>
          <p:cNvGrpSpPr/>
          <p:nvPr/>
        </p:nvGrpSpPr>
        <p:grpSpPr>
          <a:xfrm>
            <a:off x="285840" y="5645160"/>
            <a:ext cx="830160" cy="828720"/>
            <a:chOff x="285840" y="5645160"/>
            <a:chExt cx="830160" cy="828720"/>
          </a:xfrm>
        </p:grpSpPr>
        <p:pic>
          <p:nvPicPr>
            <p:cNvPr id="566" name="Oval 11" descr=""/>
            <p:cNvPicPr/>
            <p:nvPr/>
          </p:nvPicPr>
          <p:blipFill>
            <a:blip r:embed="rId4"/>
            <a:stretch/>
          </p:blipFill>
          <p:spPr>
            <a:xfrm>
              <a:off x="285840" y="5645160"/>
              <a:ext cx="830160" cy="828720"/>
            </a:xfrm>
            <a:prstGeom prst="rect">
              <a:avLst/>
            </a:prstGeom>
            <a:ln w="0">
              <a:noFill/>
            </a:ln>
          </p:spPr>
        </p:pic>
        <p:sp>
          <p:nvSpPr>
            <p:cNvPr id="567" name=""/>
            <p:cNvSpPr/>
            <p:nvPr/>
          </p:nvSpPr>
          <p:spPr>
            <a:xfrm>
              <a:off x="404640" y="5764320"/>
              <a:ext cx="588960" cy="58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570" name="PlaceHolder 3"/>
          <p:cNvSpPr>
            <a:spLocks noGrp="1"/>
          </p:cNvSpPr>
          <p:nvPr>
            <p:ph type="dt" idx="34"/>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35"/>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36"/>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F8F5-EB11-4FAA-9956-2B9F6D29A013}" type="slidenum">
              <a:rPr b="0" lang="ru-RU" sz="1200" spc="-1" strike="noStrike">
                <a:solidFill>
                  <a:srgbClr val="ffffff"/>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reeform 6"/>
          <p:cNvSpPr/>
          <p:nvPr/>
        </p:nvSpPr>
        <p:spPr>
          <a:xfrm>
            <a:off x="0" y="0"/>
            <a:ext cx="9153360" cy="1862280"/>
          </a:xfrm>
          <a:custGeom>
            <a:avLst/>
            <a:gdLst/>
            <a:ahLst/>
            <a:rect l="l" t="t" r="r" b="b"/>
            <a:pathLst>
              <a:path w="9153196" h="1862136">
                <a:moveTo>
                  <a:pt x="52" y="1284"/>
                </a:moveTo>
                <a:cubicBezTo>
                  <a:pt x="35" y="491948"/>
                  <a:pt x="17" y="1371472"/>
                  <a:pt x="0" y="1862136"/>
                </a:cubicBezTo>
                <a:cubicBezTo>
                  <a:pt x="304800" y="1706688"/>
                  <a:pt x="1952287" y="1117060"/>
                  <a:pt x="2999284" y="1051560"/>
                </a:cubicBezTo>
                <a:cubicBezTo>
                  <a:pt x="4046281" y="986060"/>
                  <a:pt x="5541316" y="1353820"/>
                  <a:pt x="6281980" y="1469136"/>
                </a:cubicBezTo>
                <a:cubicBezTo>
                  <a:pt x="7022644" y="1584452"/>
                  <a:pt x="8247940" y="1834896"/>
                  <a:pt x="9144052" y="1487424"/>
                </a:cubicBezTo>
                <a:lnTo>
                  <a:pt x="9153196" y="0"/>
                </a:ln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Freeform 7"/>
          <p:cNvSpPr/>
          <p:nvPr/>
        </p:nvSpPr>
        <p:spPr>
          <a:xfrm>
            <a:off x="0" y="0"/>
            <a:ext cx="9153360" cy="1481040"/>
          </a:xfrm>
          <a:custGeom>
            <a:avLst/>
            <a:gdLst/>
            <a:ahLst/>
            <a:rect l="l" t="t" r="r" b="b"/>
            <a:pathLst>
              <a:path w="9153196" h="1481136">
                <a:moveTo>
                  <a:pt x="52" y="1284"/>
                </a:moveTo>
                <a:cubicBezTo>
                  <a:pt x="35" y="491948"/>
                  <a:pt x="17" y="990472"/>
                  <a:pt x="0" y="1481136"/>
                </a:cubicBezTo>
                <a:cubicBezTo>
                  <a:pt x="414528" y="1319592"/>
                  <a:pt x="1857799" y="987520"/>
                  <a:pt x="2980996" y="960120"/>
                </a:cubicBezTo>
                <a:cubicBezTo>
                  <a:pt x="4104193" y="932720"/>
                  <a:pt x="6019852" y="1271016"/>
                  <a:pt x="6739180" y="1316736"/>
                </a:cubicBezTo>
                <a:cubicBezTo>
                  <a:pt x="7458508" y="1362456"/>
                  <a:pt x="8247940" y="1453896"/>
                  <a:pt x="9144052" y="1106424"/>
                </a:cubicBezTo>
                <a:lnTo>
                  <a:pt x="9153196" y="0"/>
                </a:lnTo>
                <a:lnTo>
                  <a:pt x="52" y="1284"/>
                </a:lnTo>
                <a:close/>
              </a:path>
            </a:pathLst>
          </a:custGeom>
          <a:gradFill rotWithShape="0">
            <a:gsLst>
              <a:gs pos="0">
                <a:srgbClr val="0b5395">
                  <a:alpha val="69019"/>
                </a:srgbClr>
              </a:gs>
              <a:gs pos="100000">
                <a:srgbClr val="0f6fc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61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9"/>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E4E1-E1F5-40CD-902D-F9DDD5CBB6CD}"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0" y="1335240"/>
            <a:ext cx="9147240" cy="4084560"/>
          </a:xfrm>
          <a:custGeom>
            <a:avLst/>
            <a:gdLst/>
            <a:ahLst/>
            <a:rect l="l" t="t" r="r" b="b"/>
            <a:pathLst>
              <a:path w="9147403" h="3043297">
                <a:moveTo>
                  <a:pt x="0" y="140794"/>
                </a:moveTo>
                <a:cubicBezTo>
                  <a:pt x="784860" y="19414"/>
                  <a:pt x="1778000" y="0"/>
                  <a:pt x="2828544" y="80024"/>
                </a:cubicBezTo>
                <a:cubicBezTo>
                  <a:pt x="3879088" y="160048"/>
                  <a:pt x="5543207" y="732168"/>
                  <a:pt x="6595872" y="757213"/>
                </a:cubicBezTo>
                <a:cubicBezTo>
                  <a:pt x="7648537" y="782258"/>
                  <a:pt x="8376437" y="535486"/>
                  <a:pt x="9144533" y="230295"/>
                </a:cubicBezTo>
                <a:cubicBezTo>
                  <a:pt x="9147403" y="1073565"/>
                  <a:pt x="9138437" y="1917938"/>
                  <a:pt x="9141307" y="2761208"/>
                </a:cubicBezTo>
                <a:cubicBezTo>
                  <a:pt x="8237575" y="2914438"/>
                  <a:pt x="7736391" y="2822363"/>
                  <a:pt x="6690360" y="2746696"/>
                </a:cubicBezTo>
                <a:cubicBezTo>
                  <a:pt x="5644329" y="2671029"/>
                  <a:pt x="3979910" y="2257771"/>
                  <a:pt x="2865120" y="2307204"/>
                </a:cubicBezTo>
                <a:cubicBezTo>
                  <a:pt x="1750330" y="2356637"/>
                  <a:pt x="734663" y="2709091"/>
                  <a:pt x="1619" y="3043297"/>
                </a:cubicBezTo>
                <a:cubicBezTo>
                  <a:pt x="1079" y="2075796"/>
                  <a:pt x="540" y="1108295"/>
                  <a:pt x="0" y="140794"/>
                </a:cubicBezTo>
                <a:close/>
              </a:path>
            </a:pathLst>
          </a:custGeom>
          <a:solidFill>
            <a:srgbClr val="40c6d8">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Freeform 7"/>
          <p:cNvSpPr/>
          <p:nvPr/>
        </p:nvSpPr>
        <p:spPr>
          <a:xfrm>
            <a:off x="0" y="1728720"/>
            <a:ext cx="9144000" cy="3308400"/>
          </a:xfrm>
          <a:custGeom>
            <a:avLst/>
            <a:gdLst/>
            <a:ahLst/>
            <a:rect l="l" t="t" r="r" b="b"/>
            <a:pathLst>
              <a:path w="9144647" h="3309112">
                <a:moveTo>
                  <a:pt x="381" y="310896"/>
                </a:moveTo>
                <a:cubicBezTo>
                  <a:pt x="779145" y="155448"/>
                  <a:pt x="1484757" y="0"/>
                  <a:pt x="2652141" y="45720"/>
                </a:cubicBezTo>
                <a:cubicBezTo>
                  <a:pt x="3819525" y="91440"/>
                  <a:pt x="5904313" y="763815"/>
                  <a:pt x="6986397" y="804672"/>
                </a:cubicBezTo>
                <a:cubicBezTo>
                  <a:pt x="8068481" y="845529"/>
                  <a:pt x="8437511" y="566706"/>
                  <a:pt x="9144647" y="290862"/>
                </a:cubicBezTo>
                <a:cubicBezTo>
                  <a:pt x="9144558" y="1147932"/>
                  <a:pt x="9144470" y="2005002"/>
                  <a:pt x="9144381" y="2862072"/>
                </a:cubicBezTo>
                <a:cubicBezTo>
                  <a:pt x="8450961" y="3142488"/>
                  <a:pt x="7965313" y="3309112"/>
                  <a:pt x="6986397" y="3246120"/>
                </a:cubicBezTo>
                <a:cubicBezTo>
                  <a:pt x="6007481" y="3183128"/>
                  <a:pt x="4435284" y="2501217"/>
                  <a:pt x="3270885" y="2484120"/>
                </a:cubicBezTo>
                <a:cubicBezTo>
                  <a:pt x="2106486" y="2467023"/>
                  <a:pt x="830580" y="2857024"/>
                  <a:pt x="0" y="3143536"/>
                </a:cubicBezTo>
                <a:lnTo>
                  <a:pt x="381" y="310896"/>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 name="Oval 8"/>
          <p:cNvGrpSpPr/>
          <p:nvPr/>
        </p:nvGrpSpPr>
        <p:grpSpPr>
          <a:xfrm>
            <a:off x="7699320" y="1298520"/>
            <a:ext cx="987480" cy="987480"/>
            <a:chOff x="7699320" y="1298520"/>
            <a:chExt cx="987480" cy="987480"/>
          </a:xfrm>
        </p:grpSpPr>
        <p:pic>
          <p:nvPicPr>
            <p:cNvPr id="46" name="Oval 8" descr=""/>
            <p:cNvPicPr/>
            <p:nvPr/>
          </p:nvPicPr>
          <p:blipFill>
            <a:blip r:embed="rId2"/>
            <a:stretch/>
          </p:blipFill>
          <p:spPr>
            <a:xfrm>
              <a:off x="7699320" y="1298520"/>
              <a:ext cx="987480" cy="987480"/>
            </a:xfrm>
            <a:prstGeom prst="rect">
              <a:avLst/>
            </a:prstGeom>
            <a:ln w="0">
              <a:noFill/>
            </a:ln>
          </p:spPr>
        </p:pic>
        <p:sp>
          <p:nvSpPr>
            <p:cNvPr id="47" name=""/>
            <p:cNvSpPr/>
            <p:nvPr/>
          </p:nvSpPr>
          <p:spPr>
            <a:xfrm>
              <a:off x="7843680" y="1442880"/>
              <a:ext cx="6987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Oval 9"/>
          <p:cNvGrpSpPr/>
          <p:nvPr/>
        </p:nvGrpSpPr>
        <p:grpSpPr>
          <a:xfrm>
            <a:off x="7016760" y="1932120"/>
            <a:ext cx="511200" cy="512640"/>
            <a:chOff x="7016760" y="1932120"/>
            <a:chExt cx="511200" cy="512640"/>
          </a:xfrm>
        </p:grpSpPr>
        <p:pic>
          <p:nvPicPr>
            <p:cNvPr id="49" name="Oval 9" descr=""/>
            <p:cNvPicPr/>
            <p:nvPr/>
          </p:nvPicPr>
          <p:blipFill>
            <a:blip r:embed="rId3"/>
            <a:stretch/>
          </p:blipFill>
          <p:spPr>
            <a:xfrm>
              <a:off x="7016760" y="1932120"/>
              <a:ext cx="511200" cy="512640"/>
            </a:xfrm>
            <a:prstGeom prst="rect">
              <a:avLst/>
            </a:prstGeom>
            <a:ln w="0">
              <a:noFill/>
            </a:ln>
          </p:spPr>
        </p:pic>
        <p:sp>
          <p:nvSpPr>
            <p:cNvPr id="50" name=""/>
            <p:cNvSpPr/>
            <p:nvPr/>
          </p:nvSpPr>
          <p:spPr>
            <a:xfrm>
              <a:off x="7088040" y="2004840"/>
              <a:ext cx="36216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Oval 10"/>
          <p:cNvGrpSpPr/>
          <p:nvPr/>
        </p:nvGrpSpPr>
        <p:grpSpPr>
          <a:xfrm>
            <a:off x="689040" y="4114800"/>
            <a:ext cx="1212840" cy="1219320"/>
            <a:chOff x="689040" y="4114800"/>
            <a:chExt cx="1212840" cy="1219320"/>
          </a:xfrm>
        </p:grpSpPr>
        <p:pic>
          <p:nvPicPr>
            <p:cNvPr id="52" name="Oval 10" descr=""/>
            <p:cNvPicPr/>
            <p:nvPr/>
          </p:nvPicPr>
          <p:blipFill>
            <a:blip r:embed="rId4"/>
            <a:stretch/>
          </p:blipFill>
          <p:spPr>
            <a:xfrm>
              <a:off x="689040" y="4114800"/>
              <a:ext cx="1212840" cy="1219320"/>
            </a:xfrm>
            <a:prstGeom prst="rect">
              <a:avLst/>
            </a:prstGeom>
            <a:ln w="0">
              <a:noFill/>
            </a:ln>
          </p:spPr>
        </p:pic>
        <p:sp>
          <p:nvSpPr>
            <p:cNvPr id="53" name=""/>
            <p:cNvSpPr/>
            <p:nvPr/>
          </p:nvSpPr>
          <p:spPr>
            <a:xfrm>
              <a:off x="863640" y="4292640"/>
              <a:ext cx="86040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56" name="PlaceHolder 3"/>
          <p:cNvSpPr>
            <a:spLocks noGrp="1"/>
          </p:cNvSpPr>
          <p:nvPr>
            <p:ph type="dt" idx="4"/>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4904-5D88-4DA0-BE38-03528CEF20DE}"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reeform 6"/>
          <p:cNvSpPr/>
          <p:nvPr/>
        </p:nvSpPr>
        <p:spPr>
          <a:xfrm>
            <a:off x="0" y="0"/>
            <a:ext cx="9153360" cy="1862280"/>
          </a:xfrm>
          <a:custGeom>
            <a:avLst/>
            <a:gdLst/>
            <a:ahLst/>
            <a:rect l="l" t="t" r="r" b="b"/>
            <a:pathLst>
              <a:path w="9153196" h="1862136">
                <a:moveTo>
                  <a:pt x="52" y="1284"/>
                </a:moveTo>
                <a:cubicBezTo>
                  <a:pt x="35" y="491948"/>
                  <a:pt x="17" y="1371472"/>
                  <a:pt x="0" y="1862136"/>
                </a:cubicBezTo>
                <a:cubicBezTo>
                  <a:pt x="304800" y="1706688"/>
                  <a:pt x="1952287" y="1117060"/>
                  <a:pt x="2999284" y="1051560"/>
                </a:cubicBezTo>
                <a:cubicBezTo>
                  <a:pt x="4046281" y="986060"/>
                  <a:pt x="5541316" y="1353820"/>
                  <a:pt x="6281980" y="1469136"/>
                </a:cubicBezTo>
                <a:cubicBezTo>
                  <a:pt x="7022644" y="1584452"/>
                  <a:pt x="8247940" y="1834896"/>
                  <a:pt x="9144052" y="1487424"/>
                </a:cubicBezTo>
                <a:lnTo>
                  <a:pt x="9153196" y="0"/>
                </a:ln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Freeform 7"/>
          <p:cNvSpPr/>
          <p:nvPr/>
        </p:nvSpPr>
        <p:spPr>
          <a:xfrm>
            <a:off x="0" y="0"/>
            <a:ext cx="9153360" cy="1481040"/>
          </a:xfrm>
          <a:custGeom>
            <a:avLst/>
            <a:gdLst/>
            <a:ahLst/>
            <a:rect l="l" t="t" r="r" b="b"/>
            <a:pathLst>
              <a:path w="9153196" h="1481136">
                <a:moveTo>
                  <a:pt x="52" y="1284"/>
                </a:moveTo>
                <a:cubicBezTo>
                  <a:pt x="35" y="491948"/>
                  <a:pt x="17" y="990472"/>
                  <a:pt x="0" y="1481136"/>
                </a:cubicBezTo>
                <a:cubicBezTo>
                  <a:pt x="414528" y="1319592"/>
                  <a:pt x="1857799" y="987520"/>
                  <a:pt x="2980996" y="960120"/>
                </a:cubicBezTo>
                <a:cubicBezTo>
                  <a:pt x="4104193" y="932720"/>
                  <a:pt x="6019852" y="1271016"/>
                  <a:pt x="6739180" y="1316736"/>
                </a:cubicBezTo>
                <a:cubicBezTo>
                  <a:pt x="7458508" y="1362456"/>
                  <a:pt x="8247940" y="1453896"/>
                  <a:pt x="9144052" y="1106424"/>
                </a:cubicBezTo>
                <a:lnTo>
                  <a:pt x="9153196" y="0"/>
                </a:lnTo>
                <a:lnTo>
                  <a:pt x="52" y="1284"/>
                </a:lnTo>
                <a:close/>
              </a:path>
            </a:pathLst>
          </a:custGeom>
          <a:gradFill rotWithShape="0">
            <a:gsLst>
              <a:gs pos="0">
                <a:srgbClr val="0b5395">
                  <a:alpha val="69019"/>
                </a:srgbClr>
              </a:gs>
              <a:gs pos="100000">
                <a:srgbClr val="0f6fc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 name="Oval 6"/>
          <p:cNvGrpSpPr/>
          <p:nvPr/>
        </p:nvGrpSpPr>
        <p:grpSpPr>
          <a:xfrm>
            <a:off x="8169120" y="669960"/>
            <a:ext cx="755640" cy="757080"/>
            <a:chOff x="8169120" y="669960"/>
            <a:chExt cx="755640" cy="757080"/>
          </a:xfrm>
        </p:grpSpPr>
        <p:pic>
          <p:nvPicPr>
            <p:cNvPr id="98" name="Oval 6" descr=""/>
            <p:cNvPicPr/>
            <p:nvPr/>
          </p:nvPicPr>
          <p:blipFill>
            <a:blip r:embed="rId2"/>
            <a:stretch/>
          </p:blipFill>
          <p:spPr>
            <a:xfrm>
              <a:off x="8169120" y="669960"/>
              <a:ext cx="755640" cy="757080"/>
            </a:xfrm>
            <a:prstGeom prst="rect">
              <a:avLst/>
            </a:prstGeom>
            <a:ln w="0">
              <a:noFill/>
            </a:ln>
          </p:spPr>
        </p:pic>
        <p:sp>
          <p:nvSpPr>
            <p:cNvPr id="99" name=""/>
            <p:cNvSpPr/>
            <p:nvPr/>
          </p:nvSpPr>
          <p:spPr>
            <a:xfrm>
              <a:off x="8277120" y="777960"/>
              <a:ext cx="53676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Oval 7"/>
          <p:cNvGrpSpPr/>
          <p:nvPr/>
        </p:nvGrpSpPr>
        <p:grpSpPr>
          <a:xfrm>
            <a:off x="7881840" y="1352520"/>
            <a:ext cx="384120" cy="384120"/>
            <a:chOff x="7881840" y="1352520"/>
            <a:chExt cx="384120" cy="384120"/>
          </a:xfrm>
        </p:grpSpPr>
        <p:pic>
          <p:nvPicPr>
            <p:cNvPr id="101" name="Oval 7" descr=""/>
            <p:cNvPicPr/>
            <p:nvPr/>
          </p:nvPicPr>
          <p:blipFill>
            <a:blip r:embed="rId3"/>
            <a:stretch/>
          </p:blipFill>
          <p:spPr>
            <a:xfrm>
              <a:off x="7881840" y="1352520"/>
              <a:ext cx="384120" cy="384120"/>
            </a:xfrm>
            <a:prstGeom prst="rect">
              <a:avLst/>
            </a:prstGeom>
            <a:ln w="0">
              <a:noFill/>
            </a:ln>
          </p:spPr>
        </p:pic>
        <p:sp>
          <p:nvSpPr>
            <p:cNvPr id="102" name=""/>
            <p:cNvSpPr/>
            <p:nvPr/>
          </p:nvSpPr>
          <p:spPr>
            <a:xfrm>
              <a:off x="7939080" y="140976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Oval 8"/>
          <p:cNvGrpSpPr/>
          <p:nvPr/>
        </p:nvGrpSpPr>
        <p:grpSpPr>
          <a:xfrm>
            <a:off x="285840" y="785880"/>
            <a:ext cx="993600" cy="1000080"/>
            <a:chOff x="285840" y="785880"/>
            <a:chExt cx="993600" cy="1000080"/>
          </a:xfrm>
        </p:grpSpPr>
        <p:pic>
          <p:nvPicPr>
            <p:cNvPr id="104" name="Oval 8" descr=""/>
            <p:cNvPicPr/>
            <p:nvPr/>
          </p:nvPicPr>
          <p:blipFill>
            <a:blip r:embed="rId4"/>
            <a:stretch/>
          </p:blipFill>
          <p:spPr>
            <a:xfrm>
              <a:off x="285840" y="785880"/>
              <a:ext cx="993600" cy="1000080"/>
            </a:xfrm>
            <a:prstGeom prst="rect">
              <a:avLst/>
            </a:prstGeom>
            <a:ln w="0">
              <a:noFill/>
            </a:ln>
          </p:spPr>
        </p:pic>
        <p:sp>
          <p:nvSpPr>
            <p:cNvPr id="105" name=""/>
            <p:cNvSpPr/>
            <p:nvPr/>
          </p:nvSpPr>
          <p:spPr>
            <a:xfrm>
              <a:off x="430200" y="932040"/>
              <a:ext cx="703440" cy="70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108" name="PlaceHolder 3"/>
          <p:cNvSpPr>
            <a:spLocks noGrp="1"/>
          </p:cNvSpPr>
          <p:nvPr>
            <p:ph type="dt" idx="7"/>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82A0-32C5-4C89-8066-11810DA80BDA}"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0"/>
          <p:cNvSpPr/>
          <p:nvPr/>
        </p:nvSpPr>
        <p:spPr>
          <a:xfrm>
            <a:off x="0" y="426960"/>
            <a:ext cx="9144000" cy="4525920"/>
          </a:xfrm>
          <a:custGeom>
            <a:avLst/>
            <a:gdLst/>
            <a:ahLst/>
            <a:rect l="l" t="t" r="r" b="b"/>
            <a:pathLst>
              <a:path w="9153196" h="4757736">
                <a:moveTo>
                  <a:pt x="52" y="1284"/>
                </a:moveTo>
                <a:cubicBezTo>
                  <a:pt x="35" y="491948"/>
                  <a:pt x="17" y="4267072"/>
                  <a:pt x="0" y="4757736"/>
                </a:cubicBezTo>
                <a:cubicBezTo>
                  <a:pt x="402972" y="4559785"/>
                  <a:pt x="1992246" y="3966388"/>
                  <a:pt x="3115058" y="3911480"/>
                </a:cubicBezTo>
                <a:cubicBezTo>
                  <a:pt x="4237870" y="3856572"/>
                  <a:pt x="5939190" y="4331788"/>
                  <a:pt x="6736870" y="4428289"/>
                </a:cubicBezTo>
                <a:cubicBezTo>
                  <a:pt x="7534550" y="4524790"/>
                  <a:pt x="8253185" y="4658343"/>
                  <a:pt x="9149297" y="4461355"/>
                </a:cubicBezTo>
                <a:cubicBezTo>
                  <a:pt x="9150597" y="3000127"/>
                  <a:pt x="9151896" y="1461228"/>
                  <a:pt x="9153196" y="0"/>
                </a:cubicBez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Freeform 6"/>
          <p:cNvSpPr/>
          <p:nvPr/>
        </p:nvSpPr>
        <p:spPr>
          <a:xfrm>
            <a:off x="0" y="0"/>
            <a:ext cx="9144000" cy="4525920"/>
          </a:xfrm>
          <a:custGeom>
            <a:avLst/>
            <a:gdLst/>
            <a:ahLst/>
            <a:rect l="l" t="t" r="r" b="b"/>
            <a:pathLst>
              <a:path w="9153196" h="4757736">
                <a:moveTo>
                  <a:pt x="52" y="1284"/>
                </a:moveTo>
                <a:cubicBezTo>
                  <a:pt x="35" y="491948"/>
                  <a:pt x="17" y="4267072"/>
                  <a:pt x="0" y="4757736"/>
                </a:cubicBezTo>
                <a:cubicBezTo>
                  <a:pt x="414528" y="4596192"/>
                  <a:pt x="1857799" y="4264120"/>
                  <a:pt x="2980996" y="4236720"/>
                </a:cubicBezTo>
                <a:cubicBezTo>
                  <a:pt x="4104193" y="4209320"/>
                  <a:pt x="5900665" y="4503309"/>
                  <a:pt x="6739180" y="4593336"/>
                </a:cubicBezTo>
                <a:cubicBezTo>
                  <a:pt x="7577695" y="4683363"/>
                  <a:pt x="8253185" y="4731157"/>
                  <a:pt x="9149297" y="4383685"/>
                </a:cubicBezTo>
                <a:cubicBezTo>
                  <a:pt x="9150597" y="2922457"/>
                  <a:pt x="9151896" y="1461228"/>
                  <a:pt x="9153196" y="0"/>
                </a:cubicBezTo>
                <a:lnTo>
                  <a:pt x="52" y="1284"/>
                </a:lnTo>
                <a:close/>
              </a:path>
            </a:pathLst>
          </a:custGeom>
          <a:gradFill rotWithShape="0">
            <a:gsLst>
              <a:gs pos="0">
                <a:srgbClr val="0b5395">
                  <a:alpha val="69019"/>
                </a:srgbClr>
              </a:gs>
              <a:gs pos="100000">
                <a:srgbClr val="0f6fc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 name="Oval 7"/>
          <p:cNvGrpSpPr/>
          <p:nvPr/>
        </p:nvGrpSpPr>
        <p:grpSpPr>
          <a:xfrm>
            <a:off x="8064360" y="3852720"/>
            <a:ext cx="762120" cy="755640"/>
            <a:chOff x="8064360" y="3852720"/>
            <a:chExt cx="762120" cy="755640"/>
          </a:xfrm>
        </p:grpSpPr>
        <p:pic>
          <p:nvPicPr>
            <p:cNvPr id="150" name="Oval 7" descr=""/>
            <p:cNvPicPr/>
            <p:nvPr/>
          </p:nvPicPr>
          <p:blipFill>
            <a:blip r:embed="rId2"/>
            <a:stretch/>
          </p:blipFill>
          <p:spPr>
            <a:xfrm>
              <a:off x="8064360" y="3852720"/>
              <a:ext cx="762120" cy="755640"/>
            </a:xfrm>
            <a:prstGeom prst="rect">
              <a:avLst/>
            </a:prstGeom>
            <a:ln w="0">
              <a:noFill/>
            </a:ln>
          </p:spPr>
        </p:pic>
        <p:sp>
          <p:nvSpPr>
            <p:cNvPr id="151" name=""/>
            <p:cNvSpPr/>
            <p:nvPr/>
          </p:nvSpPr>
          <p:spPr>
            <a:xfrm>
              <a:off x="8175600" y="3960720"/>
              <a:ext cx="536760" cy="5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Oval 8"/>
          <p:cNvGrpSpPr/>
          <p:nvPr/>
        </p:nvGrpSpPr>
        <p:grpSpPr>
          <a:xfrm>
            <a:off x="7791480" y="4535640"/>
            <a:ext cx="382680" cy="384120"/>
            <a:chOff x="7791480" y="4535640"/>
            <a:chExt cx="382680" cy="384120"/>
          </a:xfrm>
        </p:grpSpPr>
        <p:pic>
          <p:nvPicPr>
            <p:cNvPr id="153" name="Oval 8" descr=""/>
            <p:cNvPicPr/>
            <p:nvPr/>
          </p:nvPicPr>
          <p:blipFill>
            <a:blip r:embed="rId3"/>
            <a:stretch/>
          </p:blipFill>
          <p:spPr>
            <a:xfrm>
              <a:off x="7791480" y="4535640"/>
              <a:ext cx="382680" cy="384120"/>
            </a:xfrm>
            <a:prstGeom prst="rect">
              <a:avLst/>
            </a:prstGeom>
            <a:ln w="0">
              <a:noFill/>
            </a:ln>
          </p:spPr>
        </p:pic>
        <p:sp>
          <p:nvSpPr>
            <p:cNvPr id="154" name=""/>
            <p:cNvSpPr/>
            <p:nvPr/>
          </p:nvSpPr>
          <p:spPr>
            <a:xfrm>
              <a:off x="7846920" y="459108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Oval 9"/>
          <p:cNvGrpSpPr/>
          <p:nvPr/>
        </p:nvGrpSpPr>
        <p:grpSpPr>
          <a:xfrm>
            <a:off x="304920" y="3840120"/>
            <a:ext cx="993600" cy="1000080"/>
            <a:chOff x="304920" y="3840120"/>
            <a:chExt cx="993600" cy="1000080"/>
          </a:xfrm>
        </p:grpSpPr>
        <p:pic>
          <p:nvPicPr>
            <p:cNvPr id="156" name="Oval 9" descr=""/>
            <p:cNvPicPr/>
            <p:nvPr/>
          </p:nvPicPr>
          <p:blipFill>
            <a:blip r:embed="rId4"/>
            <a:stretch/>
          </p:blipFill>
          <p:spPr>
            <a:xfrm>
              <a:off x="304920" y="3840120"/>
              <a:ext cx="993600" cy="1000080"/>
            </a:xfrm>
            <a:prstGeom prst="rect">
              <a:avLst/>
            </a:prstGeom>
            <a:ln w="0">
              <a:noFill/>
            </a:ln>
          </p:spPr>
        </p:pic>
        <p:sp>
          <p:nvSpPr>
            <p:cNvPr id="157" name=""/>
            <p:cNvSpPr/>
            <p:nvPr/>
          </p:nvSpPr>
          <p:spPr>
            <a:xfrm>
              <a:off x="447840" y="3986280"/>
              <a:ext cx="704520" cy="70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160" name="PlaceHolder 3"/>
          <p:cNvSpPr>
            <a:spLocks noGrp="1"/>
          </p:cNvSpPr>
          <p:nvPr>
            <p:ph type="dt" idx="10"/>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type="ftr" idx="11"/>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4D74-6899-4F85-BD27-FAE35B796770}"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reeform 7"/>
          <p:cNvSpPr/>
          <p:nvPr/>
        </p:nvSpPr>
        <p:spPr>
          <a:xfrm>
            <a:off x="0" y="0"/>
            <a:ext cx="9144000" cy="1928880"/>
          </a:xfrm>
          <a:custGeom>
            <a:avLst/>
            <a:gdLst/>
            <a:ahLst/>
            <a:rect l="l" t="t" r="r" b="b"/>
            <a:pathLst>
              <a:path w="9144000" h="1929384">
                <a:moveTo>
                  <a:pt x="0" y="256032"/>
                </a:moveTo>
                <a:lnTo>
                  <a:pt x="0" y="1929384"/>
                </a:lnTo>
                <a:cubicBezTo>
                  <a:pt x="574548" y="1726692"/>
                  <a:pt x="1449324" y="1360932"/>
                  <a:pt x="2971800" y="1307592"/>
                </a:cubicBezTo>
                <a:cubicBezTo>
                  <a:pt x="4494276" y="1254252"/>
                  <a:pt x="7606284" y="1872996"/>
                  <a:pt x="9134856" y="1609344"/>
                </a:cubicBezTo>
                <a:lnTo>
                  <a:pt x="9144000" y="0"/>
                </a:lnTo>
                <a:lnTo>
                  <a:pt x="8503920" y="0"/>
                </a:lnTo>
                <a:cubicBezTo>
                  <a:pt x="7543800" y="844296"/>
                  <a:pt x="5111496" y="420624"/>
                  <a:pt x="3858768" y="320040"/>
                </a:cubicBezTo>
                <a:cubicBezTo>
                  <a:pt x="2606040" y="219456"/>
                  <a:pt x="1435608" y="76200"/>
                  <a:pt x="0" y="256032"/>
                </a:cubicBezTo>
                <a:close/>
              </a:path>
            </a:pathLst>
          </a:custGeom>
          <a:solidFill>
            <a:srgbClr val="40c6d8">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Freeform 8"/>
          <p:cNvSpPr/>
          <p:nvPr/>
        </p:nvSpPr>
        <p:spPr>
          <a:xfrm>
            <a:off x="0" y="228600"/>
            <a:ext cx="9144000" cy="1409760"/>
          </a:xfrm>
          <a:custGeom>
            <a:avLst/>
            <a:gdLst/>
            <a:ahLst/>
            <a:rect l="l" t="t" r="r" b="b"/>
            <a:pathLst>
              <a:path w="9144381" h="1409700">
                <a:moveTo>
                  <a:pt x="381" y="426720"/>
                </a:moveTo>
                <a:cubicBezTo>
                  <a:pt x="1664589" y="0"/>
                  <a:pt x="3036189" y="134112"/>
                  <a:pt x="4544949" y="234696"/>
                </a:cubicBezTo>
                <a:cubicBezTo>
                  <a:pt x="6053709" y="335280"/>
                  <a:pt x="8239125" y="509016"/>
                  <a:pt x="9144381" y="33528"/>
                </a:cubicBezTo>
                <a:lnTo>
                  <a:pt x="9144381" y="1075944"/>
                </a:lnTo>
                <a:cubicBezTo>
                  <a:pt x="8004429" y="1409700"/>
                  <a:pt x="5931852" y="960582"/>
                  <a:pt x="4407789" y="1011936"/>
                </a:cubicBezTo>
                <a:cubicBezTo>
                  <a:pt x="2883726" y="1063290"/>
                  <a:pt x="1237488" y="1109751"/>
                  <a:pt x="0" y="1384071"/>
                </a:cubicBezTo>
                <a:lnTo>
                  <a:pt x="381" y="426720"/>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1" name="Oval 9"/>
          <p:cNvGrpSpPr/>
          <p:nvPr/>
        </p:nvGrpSpPr>
        <p:grpSpPr>
          <a:xfrm>
            <a:off x="8315280" y="103320"/>
            <a:ext cx="609480" cy="609480"/>
            <a:chOff x="8315280" y="103320"/>
            <a:chExt cx="609480" cy="609480"/>
          </a:xfrm>
        </p:grpSpPr>
        <p:pic>
          <p:nvPicPr>
            <p:cNvPr id="202" name="Oval 9" descr=""/>
            <p:cNvPicPr/>
            <p:nvPr/>
          </p:nvPicPr>
          <p:blipFill>
            <a:blip r:embed="rId2"/>
            <a:stretch/>
          </p:blipFill>
          <p:spPr>
            <a:xfrm>
              <a:off x="8315280" y="103320"/>
              <a:ext cx="609480" cy="609480"/>
            </a:xfrm>
            <a:prstGeom prst="rect">
              <a:avLst/>
            </a:prstGeom>
            <a:ln w="0">
              <a:noFill/>
            </a:ln>
          </p:spPr>
        </p:pic>
        <p:sp>
          <p:nvSpPr>
            <p:cNvPr id="203" name=""/>
            <p:cNvSpPr/>
            <p:nvPr/>
          </p:nvSpPr>
          <p:spPr>
            <a:xfrm>
              <a:off x="8400960" y="190440"/>
              <a:ext cx="433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Oval 10"/>
          <p:cNvGrpSpPr/>
          <p:nvPr/>
        </p:nvGrpSpPr>
        <p:grpSpPr>
          <a:xfrm>
            <a:off x="7564320" y="176040"/>
            <a:ext cx="366840" cy="366840"/>
            <a:chOff x="7564320" y="176040"/>
            <a:chExt cx="366840" cy="366840"/>
          </a:xfrm>
        </p:grpSpPr>
        <p:pic>
          <p:nvPicPr>
            <p:cNvPr id="205" name="Oval 10" descr=""/>
            <p:cNvPicPr/>
            <p:nvPr/>
          </p:nvPicPr>
          <p:blipFill>
            <a:blip r:embed="rId3"/>
            <a:stretch/>
          </p:blipFill>
          <p:spPr>
            <a:xfrm>
              <a:off x="7564320" y="176040"/>
              <a:ext cx="366840" cy="366840"/>
            </a:xfrm>
            <a:prstGeom prst="rect">
              <a:avLst/>
            </a:prstGeom>
            <a:ln w="0">
              <a:noFill/>
            </a:ln>
          </p:spPr>
        </p:pic>
        <p:sp>
          <p:nvSpPr>
            <p:cNvPr id="206" name=""/>
            <p:cNvSpPr/>
            <p:nvPr/>
          </p:nvSpPr>
          <p:spPr>
            <a:xfrm>
              <a:off x="7615080" y="227160"/>
              <a:ext cx="258840" cy="25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Oval 11"/>
          <p:cNvGrpSpPr/>
          <p:nvPr/>
        </p:nvGrpSpPr>
        <p:grpSpPr>
          <a:xfrm>
            <a:off x="212760" y="933480"/>
            <a:ext cx="993600" cy="998640"/>
            <a:chOff x="212760" y="933480"/>
            <a:chExt cx="993600" cy="998640"/>
          </a:xfrm>
        </p:grpSpPr>
        <p:pic>
          <p:nvPicPr>
            <p:cNvPr id="208" name="Oval 11" descr=""/>
            <p:cNvPicPr/>
            <p:nvPr/>
          </p:nvPicPr>
          <p:blipFill>
            <a:blip r:embed="rId4"/>
            <a:stretch/>
          </p:blipFill>
          <p:spPr>
            <a:xfrm>
              <a:off x="212760" y="933480"/>
              <a:ext cx="993600" cy="998640"/>
            </a:xfrm>
            <a:prstGeom prst="rect">
              <a:avLst/>
            </a:prstGeom>
            <a:ln w="0">
              <a:noFill/>
            </a:ln>
          </p:spPr>
        </p:pic>
        <p:sp>
          <p:nvSpPr>
            <p:cNvPr id="209" name=""/>
            <p:cNvSpPr/>
            <p:nvPr/>
          </p:nvSpPr>
          <p:spPr>
            <a:xfrm>
              <a:off x="355680" y="1077840"/>
              <a:ext cx="704880" cy="70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12" name="PlaceHolder 3"/>
          <p:cNvSpPr>
            <a:spLocks noGrp="1"/>
          </p:cNvSpPr>
          <p:nvPr>
            <p:ph type="dt" idx="13"/>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4"/>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5"/>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C8F1-7CFF-4F20-8917-3A4679C6B01F}"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reeform 6"/>
          <p:cNvSpPr/>
          <p:nvPr/>
        </p:nvSpPr>
        <p:spPr>
          <a:xfrm>
            <a:off x="0" y="0"/>
            <a:ext cx="9153360" cy="1862280"/>
          </a:xfrm>
          <a:custGeom>
            <a:avLst/>
            <a:gdLst/>
            <a:ahLst/>
            <a:rect l="l" t="t" r="r" b="b"/>
            <a:pathLst>
              <a:path w="9153196" h="1862136">
                <a:moveTo>
                  <a:pt x="52" y="1284"/>
                </a:moveTo>
                <a:cubicBezTo>
                  <a:pt x="35" y="491948"/>
                  <a:pt x="17" y="1371472"/>
                  <a:pt x="0" y="1862136"/>
                </a:cubicBezTo>
                <a:cubicBezTo>
                  <a:pt x="304800" y="1706688"/>
                  <a:pt x="1952287" y="1117060"/>
                  <a:pt x="2999284" y="1051560"/>
                </a:cubicBezTo>
                <a:cubicBezTo>
                  <a:pt x="4046281" y="986060"/>
                  <a:pt x="5541316" y="1353820"/>
                  <a:pt x="6281980" y="1469136"/>
                </a:cubicBezTo>
                <a:cubicBezTo>
                  <a:pt x="7022644" y="1584452"/>
                  <a:pt x="8247940" y="1834896"/>
                  <a:pt x="9144052" y="1487424"/>
                </a:cubicBezTo>
                <a:lnTo>
                  <a:pt x="9153196" y="0"/>
                </a:ln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Freeform 7"/>
          <p:cNvSpPr/>
          <p:nvPr/>
        </p:nvSpPr>
        <p:spPr>
          <a:xfrm>
            <a:off x="0" y="0"/>
            <a:ext cx="9153360" cy="1481040"/>
          </a:xfrm>
          <a:custGeom>
            <a:avLst/>
            <a:gdLst/>
            <a:ahLst/>
            <a:rect l="l" t="t" r="r" b="b"/>
            <a:pathLst>
              <a:path w="9153196" h="1481136">
                <a:moveTo>
                  <a:pt x="52" y="1284"/>
                </a:moveTo>
                <a:cubicBezTo>
                  <a:pt x="35" y="491948"/>
                  <a:pt x="17" y="990472"/>
                  <a:pt x="0" y="1481136"/>
                </a:cubicBezTo>
                <a:cubicBezTo>
                  <a:pt x="414528" y="1319592"/>
                  <a:pt x="1857799" y="987520"/>
                  <a:pt x="2980996" y="960120"/>
                </a:cubicBezTo>
                <a:cubicBezTo>
                  <a:pt x="4104193" y="932720"/>
                  <a:pt x="6019852" y="1271016"/>
                  <a:pt x="6739180" y="1316736"/>
                </a:cubicBezTo>
                <a:cubicBezTo>
                  <a:pt x="7458508" y="1362456"/>
                  <a:pt x="8247940" y="1453896"/>
                  <a:pt x="9144052" y="1106424"/>
                </a:cubicBezTo>
                <a:lnTo>
                  <a:pt x="9153196" y="0"/>
                </a:lnTo>
                <a:lnTo>
                  <a:pt x="52" y="1284"/>
                </a:lnTo>
                <a:close/>
              </a:path>
            </a:pathLst>
          </a:custGeom>
          <a:gradFill rotWithShape="0">
            <a:gsLst>
              <a:gs pos="0">
                <a:srgbClr val="0b5395">
                  <a:alpha val="69019"/>
                </a:srgbClr>
              </a:gs>
              <a:gs pos="100000">
                <a:srgbClr val="0f6fc6"/>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Oval 9"/>
          <p:cNvGrpSpPr/>
          <p:nvPr/>
        </p:nvGrpSpPr>
        <p:grpSpPr>
          <a:xfrm>
            <a:off x="8229600" y="1006560"/>
            <a:ext cx="615960" cy="614160"/>
            <a:chOff x="8229600" y="1006560"/>
            <a:chExt cx="615960" cy="614160"/>
          </a:xfrm>
        </p:grpSpPr>
        <p:pic>
          <p:nvPicPr>
            <p:cNvPr id="254" name="Oval 9" descr=""/>
            <p:cNvPicPr/>
            <p:nvPr/>
          </p:nvPicPr>
          <p:blipFill>
            <a:blip r:embed="rId2"/>
            <a:stretch/>
          </p:blipFill>
          <p:spPr>
            <a:xfrm>
              <a:off x="8229600" y="1006560"/>
              <a:ext cx="615960" cy="614160"/>
            </a:xfrm>
            <a:prstGeom prst="rect">
              <a:avLst/>
            </a:prstGeom>
            <a:ln w="0">
              <a:noFill/>
            </a:ln>
          </p:spPr>
        </p:pic>
        <p:sp>
          <p:nvSpPr>
            <p:cNvPr id="255" name=""/>
            <p:cNvSpPr/>
            <p:nvPr/>
          </p:nvSpPr>
          <p:spPr>
            <a:xfrm>
              <a:off x="8319960" y="1095480"/>
              <a:ext cx="43200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Oval 10"/>
          <p:cNvGrpSpPr/>
          <p:nvPr/>
        </p:nvGrpSpPr>
        <p:grpSpPr>
          <a:xfrm>
            <a:off x="7699320" y="969840"/>
            <a:ext cx="384120" cy="382680"/>
            <a:chOff x="7699320" y="969840"/>
            <a:chExt cx="384120" cy="382680"/>
          </a:xfrm>
        </p:grpSpPr>
        <p:pic>
          <p:nvPicPr>
            <p:cNvPr id="257" name="Oval 10" descr=""/>
            <p:cNvPicPr/>
            <p:nvPr/>
          </p:nvPicPr>
          <p:blipFill>
            <a:blip r:embed="rId3"/>
            <a:stretch/>
          </p:blipFill>
          <p:spPr>
            <a:xfrm>
              <a:off x="7699320" y="969840"/>
              <a:ext cx="384120" cy="382680"/>
            </a:xfrm>
            <a:prstGeom prst="rect">
              <a:avLst/>
            </a:prstGeom>
            <a:ln w="0">
              <a:noFill/>
            </a:ln>
          </p:spPr>
        </p:pic>
        <p:sp>
          <p:nvSpPr>
            <p:cNvPr id="258" name=""/>
            <p:cNvSpPr/>
            <p:nvPr/>
          </p:nvSpPr>
          <p:spPr>
            <a:xfrm>
              <a:off x="7754760" y="1025640"/>
              <a:ext cx="27180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Oval 11"/>
          <p:cNvGrpSpPr/>
          <p:nvPr/>
        </p:nvGrpSpPr>
        <p:grpSpPr>
          <a:xfrm>
            <a:off x="285840" y="785880"/>
            <a:ext cx="993600" cy="1000080"/>
            <a:chOff x="285840" y="785880"/>
            <a:chExt cx="993600" cy="1000080"/>
          </a:xfrm>
        </p:grpSpPr>
        <p:pic>
          <p:nvPicPr>
            <p:cNvPr id="260" name="Oval 11" descr=""/>
            <p:cNvPicPr/>
            <p:nvPr/>
          </p:nvPicPr>
          <p:blipFill>
            <a:blip r:embed="rId4"/>
            <a:stretch/>
          </p:blipFill>
          <p:spPr>
            <a:xfrm>
              <a:off x="285840" y="785880"/>
              <a:ext cx="993600" cy="1000080"/>
            </a:xfrm>
            <a:prstGeom prst="rect">
              <a:avLst/>
            </a:prstGeom>
            <a:ln w="0">
              <a:noFill/>
            </a:ln>
          </p:spPr>
        </p:pic>
        <p:sp>
          <p:nvSpPr>
            <p:cNvPr id="261" name=""/>
            <p:cNvSpPr/>
            <p:nvPr/>
          </p:nvSpPr>
          <p:spPr>
            <a:xfrm>
              <a:off x="430200" y="932040"/>
              <a:ext cx="703440" cy="70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64" name="PlaceHolder 3"/>
          <p:cNvSpPr>
            <a:spLocks noGrp="1"/>
          </p:cNvSpPr>
          <p:nvPr>
            <p:ph type="dt" idx="16"/>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17"/>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18"/>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D446-2D9C-44F8-86B5-074AFA8073E2}"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reeform 9"/>
          <p:cNvSpPr/>
          <p:nvPr/>
        </p:nvSpPr>
        <p:spPr>
          <a:xfrm>
            <a:off x="0" y="0"/>
            <a:ext cx="9150480" cy="1281240"/>
          </a:xfrm>
          <a:custGeom>
            <a:avLst/>
            <a:gdLst/>
            <a:ahLst/>
            <a:rect l="l" t="t" r="r" b="b"/>
            <a:pathLst>
              <a:path w="9150620" h="1470041">
                <a:moveTo>
                  <a:pt x="52" y="1284"/>
                </a:moveTo>
                <a:cubicBezTo>
                  <a:pt x="35" y="491948"/>
                  <a:pt x="17" y="761872"/>
                  <a:pt x="0" y="1252536"/>
                </a:cubicBezTo>
                <a:cubicBezTo>
                  <a:pt x="304800" y="1097088"/>
                  <a:pt x="1803165" y="328826"/>
                  <a:pt x="3622738" y="425264"/>
                </a:cubicBezTo>
                <a:cubicBezTo>
                  <a:pt x="5442311" y="521702"/>
                  <a:pt x="6970396" y="1470041"/>
                  <a:pt x="9144052" y="877824"/>
                </a:cubicBezTo>
                <a:cubicBezTo>
                  <a:pt x="9146241" y="585216"/>
                  <a:pt x="9148431" y="292608"/>
                  <a:pt x="9150620" y="0"/>
                </a:cubicBez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Freeform 5"/>
          <p:cNvSpPr/>
          <p:nvPr/>
        </p:nvSpPr>
        <p:spPr>
          <a:xfrm>
            <a:off x="0" y="-1440"/>
            <a:ext cx="9144000" cy="1093680"/>
          </a:xfrm>
          <a:custGeom>
            <a:avLst/>
            <a:gdLst/>
            <a:ahLst/>
            <a:rect l="l" t="t" r="r" b="b"/>
            <a:pathLst>
              <a:path w="9144052" h="1282732">
                <a:moveTo>
                  <a:pt x="2371" y="1971"/>
                </a:moveTo>
                <a:cubicBezTo>
                  <a:pt x="1581" y="305263"/>
                  <a:pt x="790" y="446133"/>
                  <a:pt x="0" y="749425"/>
                </a:cubicBezTo>
                <a:cubicBezTo>
                  <a:pt x="414528" y="587881"/>
                  <a:pt x="1394642" y="355830"/>
                  <a:pt x="3114923" y="315034"/>
                </a:cubicBezTo>
                <a:cubicBezTo>
                  <a:pt x="4835204" y="274238"/>
                  <a:pt x="7500499" y="1282732"/>
                  <a:pt x="9144052" y="537135"/>
                </a:cubicBezTo>
                <a:cubicBezTo>
                  <a:pt x="9143751" y="358090"/>
                  <a:pt x="9143451" y="179045"/>
                  <a:pt x="9143150" y="0"/>
                </a:cubicBezTo>
                <a:lnTo>
                  <a:pt x="2371"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5" name="Oval 6"/>
          <p:cNvGrpSpPr/>
          <p:nvPr/>
        </p:nvGrpSpPr>
        <p:grpSpPr>
          <a:xfrm>
            <a:off x="8077320" y="384120"/>
            <a:ext cx="755640" cy="762120"/>
            <a:chOff x="8077320" y="384120"/>
            <a:chExt cx="755640" cy="762120"/>
          </a:xfrm>
        </p:grpSpPr>
        <p:pic>
          <p:nvPicPr>
            <p:cNvPr id="306" name="Oval 6" descr=""/>
            <p:cNvPicPr/>
            <p:nvPr/>
          </p:nvPicPr>
          <p:blipFill>
            <a:blip r:embed="rId2"/>
            <a:stretch/>
          </p:blipFill>
          <p:spPr>
            <a:xfrm>
              <a:off x="8077320" y="384120"/>
              <a:ext cx="755640" cy="762120"/>
            </a:xfrm>
            <a:prstGeom prst="rect">
              <a:avLst/>
            </a:prstGeom>
            <a:ln w="0">
              <a:noFill/>
            </a:ln>
          </p:spPr>
        </p:pic>
        <p:sp>
          <p:nvSpPr>
            <p:cNvPr id="307" name=""/>
            <p:cNvSpPr/>
            <p:nvPr/>
          </p:nvSpPr>
          <p:spPr>
            <a:xfrm>
              <a:off x="8185320" y="495360"/>
              <a:ext cx="5364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Oval 7"/>
          <p:cNvGrpSpPr/>
          <p:nvPr/>
        </p:nvGrpSpPr>
        <p:grpSpPr>
          <a:xfrm>
            <a:off x="7497720" y="433440"/>
            <a:ext cx="384120" cy="384120"/>
            <a:chOff x="7497720" y="433440"/>
            <a:chExt cx="384120" cy="384120"/>
          </a:xfrm>
        </p:grpSpPr>
        <p:pic>
          <p:nvPicPr>
            <p:cNvPr id="309" name="Oval 7" descr=""/>
            <p:cNvPicPr/>
            <p:nvPr/>
          </p:nvPicPr>
          <p:blipFill>
            <a:blip r:embed="rId3"/>
            <a:stretch/>
          </p:blipFill>
          <p:spPr>
            <a:xfrm>
              <a:off x="7497720" y="433440"/>
              <a:ext cx="384120" cy="384120"/>
            </a:xfrm>
            <a:prstGeom prst="rect">
              <a:avLst/>
            </a:prstGeom>
            <a:ln w="0">
              <a:noFill/>
            </a:ln>
          </p:spPr>
        </p:pic>
        <p:sp>
          <p:nvSpPr>
            <p:cNvPr id="310" name=""/>
            <p:cNvSpPr/>
            <p:nvPr/>
          </p:nvSpPr>
          <p:spPr>
            <a:xfrm>
              <a:off x="7554960" y="48564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Oval 8"/>
          <p:cNvGrpSpPr/>
          <p:nvPr/>
        </p:nvGrpSpPr>
        <p:grpSpPr>
          <a:xfrm>
            <a:off x="212760" y="212760"/>
            <a:ext cx="830160" cy="830160"/>
            <a:chOff x="212760" y="212760"/>
            <a:chExt cx="830160" cy="830160"/>
          </a:xfrm>
        </p:grpSpPr>
        <p:pic>
          <p:nvPicPr>
            <p:cNvPr id="312" name="Oval 8" descr=""/>
            <p:cNvPicPr/>
            <p:nvPr/>
          </p:nvPicPr>
          <p:blipFill>
            <a:blip r:embed="rId4"/>
            <a:stretch/>
          </p:blipFill>
          <p:spPr>
            <a:xfrm>
              <a:off x="212760" y="212760"/>
              <a:ext cx="830160" cy="830160"/>
            </a:xfrm>
            <a:prstGeom prst="rect">
              <a:avLst/>
            </a:prstGeom>
            <a:ln w="0">
              <a:noFill/>
            </a:ln>
          </p:spPr>
        </p:pic>
        <p:sp>
          <p:nvSpPr>
            <p:cNvPr id="313" name=""/>
            <p:cNvSpPr/>
            <p:nvPr/>
          </p:nvSpPr>
          <p:spPr>
            <a:xfrm>
              <a:off x="331920" y="331920"/>
              <a:ext cx="588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316" name="PlaceHolder 3"/>
          <p:cNvSpPr>
            <a:spLocks noGrp="1"/>
          </p:cNvSpPr>
          <p:nvPr>
            <p:ph type="dt" idx="19"/>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204C-2AE6-4803-A8ED-8A6CEA15A6BE}"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4"/>
          <p:cNvGrpSpPr/>
          <p:nvPr/>
        </p:nvGrpSpPr>
        <p:grpSpPr>
          <a:xfrm>
            <a:off x="0" y="-1440"/>
            <a:ext cx="9150480" cy="1282680"/>
            <a:chOff x="0" y="-1440"/>
            <a:chExt cx="9150480" cy="1282680"/>
          </a:xfrm>
        </p:grpSpPr>
        <p:sp>
          <p:nvSpPr>
            <p:cNvPr id="356" name="Freeform 5"/>
            <p:cNvSpPr/>
            <p:nvPr/>
          </p:nvSpPr>
          <p:spPr>
            <a:xfrm>
              <a:off x="0" y="0"/>
              <a:ext cx="9150480" cy="1281240"/>
            </a:xfrm>
            <a:custGeom>
              <a:avLst/>
              <a:gdLst/>
              <a:ahLst/>
              <a:rect l="l" t="t" r="r" b="b"/>
              <a:pathLst>
                <a:path w="9150620" h="1470041">
                  <a:moveTo>
                    <a:pt x="52" y="1284"/>
                  </a:moveTo>
                  <a:cubicBezTo>
                    <a:pt x="35" y="491948"/>
                    <a:pt x="17" y="761872"/>
                    <a:pt x="0" y="1252536"/>
                  </a:cubicBezTo>
                  <a:cubicBezTo>
                    <a:pt x="304800" y="1097088"/>
                    <a:pt x="1803165" y="328826"/>
                    <a:pt x="3622738" y="425264"/>
                  </a:cubicBezTo>
                  <a:cubicBezTo>
                    <a:pt x="5442311" y="521702"/>
                    <a:pt x="6970396" y="1470041"/>
                    <a:pt x="9144052" y="877824"/>
                  </a:cubicBezTo>
                  <a:cubicBezTo>
                    <a:pt x="9146241" y="585216"/>
                    <a:pt x="9148431" y="292608"/>
                    <a:pt x="9150620" y="0"/>
                  </a:cubicBezTo>
                  <a:lnTo>
                    <a:pt x="5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Freeform 6"/>
            <p:cNvSpPr/>
            <p:nvPr/>
          </p:nvSpPr>
          <p:spPr>
            <a:xfrm>
              <a:off x="0" y="-1440"/>
              <a:ext cx="9144360" cy="1094040"/>
            </a:xfrm>
            <a:custGeom>
              <a:avLst/>
              <a:gdLst/>
              <a:ahLst/>
              <a:rect l="l" t="t" r="r" b="b"/>
              <a:pathLst>
                <a:path w="9144052" h="1282732">
                  <a:moveTo>
                    <a:pt x="2371" y="1971"/>
                  </a:moveTo>
                  <a:cubicBezTo>
                    <a:pt x="1581" y="305263"/>
                    <a:pt x="790" y="446133"/>
                    <a:pt x="0" y="749425"/>
                  </a:cubicBezTo>
                  <a:cubicBezTo>
                    <a:pt x="414528" y="587881"/>
                    <a:pt x="1394642" y="355830"/>
                    <a:pt x="3114923" y="315034"/>
                  </a:cubicBezTo>
                  <a:cubicBezTo>
                    <a:pt x="4835204" y="274238"/>
                    <a:pt x="7500499" y="1282732"/>
                    <a:pt x="9144052" y="537135"/>
                  </a:cubicBezTo>
                  <a:cubicBezTo>
                    <a:pt x="9143751" y="358090"/>
                    <a:pt x="9143451" y="179045"/>
                    <a:pt x="9143150" y="0"/>
                  </a:cubicBezTo>
                  <a:lnTo>
                    <a:pt x="2371"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 name="Oval 7"/>
          <p:cNvGrpSpPr/>
          <p:nvPr/>
        </p:nvGrpSpPr>
        <p:grpSpPr>
          <a:xfrm>
            <a:off x="8077320" y="384120"/>
            <a:ext cx="755640" cy="762120"/>
            <a:chOff x="8077320" y="384120"/>
            <a:chExt cx="755640" cy="762120"/>
          </a:xfrm>
        </p:grpSpPr>
        <p:pic>
          <p:nvPicPr>
            <p:cNvPr id="359" name="Oval 7" descr=""/>
            <p:cNvPicPr/>
            <p:nvPr/>
          </p:nvPicPr>
          <p:blipFill>
            <a:blip r:embed="rId2"/>
            <a:stretch/>
          </p:blipFill>
          <p:spPr>
            <a:xfrm>
              <a:off x="8077320" y="384120"/>
              <a:ext cx="755640" cy="762120"/>
            </a:xfrm>
            <a:prstGeom prst="rect">
              <a:avLst/>
            </a:prstGeom>
            <a:ln w="0">
              <a:noFill/>
            </a:ln>
          </p:spPr>
        </p:pic>
        <p:sp>
          <p:nvSpPr>
            <p:cNvPr id="360" name=""/>
            <p:cNvSpPr/>
            <p:nvPr/>
          </p:nvSpPr>
          <p:spPr>
            <a:xfrm>
              <a:off x="8185320" y="495360"/>
              <a:ext cx="53640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Oval 8"/>
          <p:cNvGrpSpPr/>
          <p:nvPr/>
        </p:nvGrpSpPr>
        <p:grpSpPr>
          <a:xfrm>
            <a:off x="7497720" y="433440"/>
            <a:ext cx="384120" cy="384120"/>
            <a:chOff x="7497720" y="433440"/>
            <a:chExt cx="384120" cy="384120"/>
          </a:xfrm>
        </p:grpSpPr>
        <p:pic>
          <p:nvPicPr>
            <p:cNvPr id="362" name="Oval 8" descr=""/>
            <p:cNvPicPr/>
            <p:nvPr/>
          </p:nvPicPr>
          <p:blipFill>
            <a:blip r:embed="rId3"/>
            <a:stretch/>
          </p:blipFill>
          <p:spPr>
            <a:xfrm>
              <a:off x="7497720" y="433440"/>
              <a:ext cx="384120" cy="384120"/>
            </a:xfrm>
            <a:prstGeom prst="rect">
              <a:avLst/>
            </a:prstGeom>
            <a:ln w="0">
              <a:noFill/>
            </a:ln>
          </p:spPr>
        </p:pic>
        <p:sp>
          <p:nvSpPr>
            <p:cNvPr id="363" name=""/>
            <p:cNvSpPr/>
            <p:nvPr/>
          </p:nvSpPr>
          <p:spPr>
            <a:xfrm>
              <a:off x="7554960" y="485640"/>
              <a:ext cx="27144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Oval 9"/>
          <p:cNvGrpSpPr/>
          <p:nvPr/>
        </p:nvGrpSpPr>
        <p:grpSpPr>
          <a:xfrm>
            <a:off x="212760" y="212760"/>
            <a:ext cx="830160" cy="830160"/>
            <a:chOff x="212760" y="212760"/>
            <a:chExt cx="830160" cy="830160"/>
          </a:xfrm>
        </p:grpSpPr>
        <p:pic>
          <p:nvPicPr>
            <p:cNvPr id="365" name="Oval 9" descr=""/>
            <p:cNvPicPr/>
            <p:nvPr/>
          </p:nvPicPr>
          <p:blipFill>
            <a:blip r:embed="rId4"/>
            <a:stretch/>
          </p:blipFill>
          <p:spPr>
            <a:xfrm>
              <a:off x="212760" y="212760"/>
              <a:ext cx="830160" cy="830160"/>
            </a:xfrm>
            <a:prstGeom prst="rect">
              <a:avLst/>
            </a:prstGeom>
            <a:ln w="0">
              <a:noFill/>
            </a:ln>
          </p:spPr>
        </p:pic>
        <p:sp>
          <p:nvSpPr>
            <p:cNvPr id="366" name=""/>
            <p:cNvSpPr/>
            <p:nvPr/>
          </p:nvSpPr>
          <p:spPr>
            <a:xfrm>
              <a:off x="331920" y="331920"/>
              <a:ext cx="58896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369" name="PlaceHolder 3"/>
          <p:cNvSpPr>
            <a:spLocks noGrp="1"/>
          </p:cNvSpPr>
          <p:nvPr>
            <p:ph type="dt" idx="22"/>
          </p:nvPr>
        </p:nvSpPr>
        <p:spPr>
          <a:xfrm>
            <a:off x="4568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4"/>
          <p:cNvSpPr>
            <a:spLocks noGrp="1"/>
          </p:cNvSpPr>
          <p:nvPr>
            <p:ph type="ftr" idx="23"/>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5"/>
          <p:cNvSpPr>
            <a:spLocks noGrp="1"/>
          </p:cNvSpPr>
          <p:nvPr>
            <p:ph type="sldNum" idx="24"/>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86C4-10C7-46AF-B9D9-6AF5A6161999}"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Group 7"/>
          <p:cNvGrpSpPr/>
          <p:nvPr/>
        </p:nvGrpSpPr>
        <p:grpSpPr>
          <a:xfrm>
            <a:off x="0" y="-7200"/>
            <a:ext cx="1104840" cy="6891840"/>
            <a:chOff x="0" y="-7200"/>
            <a:chExt cx="1104840" cy="6891840"/>
          </a:xfrm>
        </p:grpSpPr>
        <p:sp>
          <p:nvSpPr>
            <p:cNvPr id="409" name="Freeform 8"/>
            <p:cNvSpPr/>
            <p:nvPr/>
          </p:nvSpPr>
          <p:spPr>
            <a:xfrm rot="16200000">
              <a:off x="-2887560" y="2882160"/>
              <a:ext cx="6882120" cy="1103400"/>
            </a:xfrm>
            <a:custGeom>
              <a:avLst/>
              <a:gdLst/>
              <a:ahLst/>
              <a:rect l="l" t="t" r="r" b="b"/>
              <a:pathLst>
                <a:path w="9176990" h="1489619">
                  <a:moveTo>
                    <a:pt x="18502" y="1284"/>
                  </a:moveTo>
                  <a:cubicBezTo>
                    <a:pt x="18485" y="491948"/>
                    <a:pt x="17" y="998955"/>
                    <a:pt x="0" y="1489619"/>
                  </a:cubicBezTo>
                  <a:cubicBezTo>
                    <a:pt x="304800" y="1334171"/>
                    <a:pt x="2076793" y="572593"/>
                    <a:pt x="3209344" y="515274"/>
                  </a:cubicBezTo>
                  <a:cubicBezTo>
                    <a:pt x="4341895" y="457955"/>
                    <a:pt x="5743827" y="772070"/>
                    <a:pt x="6307596" y="941158"/>
                  </a:cubicBezTo>
                  <a:cubicBezTo>
                    <a:pt x="6871365" y="1110246"/>
                    <a:pt x="8191884" y="1377605"/>
                    <a:pt x="9174801" y="1061875"/>
                  </a:cubicBezTo>
                  <a:cubicBezTo>
                    <a:pt x="9176990" y="769267"/>
                    <a:pt x="9166881" y="292608"/>
                    <a:pt x="9169070" y="0"/>
                  </a:cubicBezTo>
                  <a:lnTo>
                    <a:pt x="18502" y="1284"/>
                  </a:lnTo>
                  <a:close/>
                </a:path>
              </a:pathLst>
            </a:custGeom>
            <a:solidFill>
              <a:srgbClr val="0f6fc6">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Freeform 9"/>
            <p:cNvSpPr/>
            <p:nvPr/>
          </p:nvSpPr>
          <p:spPr>
            <a:xfrm rot="16200000">
              <a:off x="-2889000" y="2912400"/>
              <a:ext cx="6861600" cy="1082880"/>
            </a:xfrm>
            <a:custGeom>
              <a:avLst/>
              <a:gdLst/>
              <a:ahLst/>
              <a:rect l="l" t="t" r="r" b="b"/>
              <a:pathLst>
                <a:path w="9142471" h="1874582">
                  <a:moveTo>
                    <a:pt x="790" y="1971"/>
                  </a:moveTo>
                  <a:cubicBezTo>
                    <a:pt x="0" y="305263"/>
                    <a:pt x="5358" y="838040"/>
                    <a:pt x="4568" y="1141332"/>
                  </a:cubicBezTo>
                  <a:cubicBezTo>
                    <a:pt x="419096" y="979788"/>
                    <a:pt x="1492070" y="639683"/>
                    <a:pt x="3162539" y="482994"/>
                  </a:cubicBezTo>
                  <a:cubicBezTo>
                    <a:pt x="4833008" y="326305"/>
                    <a:pt x="7747892" y="1874582"/>
                    <a:pt x="9142471" y="825067"/>
                  </a:cubicBezTo>
                  <a:cubicBezTo>
                    <a:pt x="9142170" y="646022"/>
                    <a:pt x="9141870" y="179045"/>
                    <a:pt x="9141569" y="0"/>
                  </a:cubicBezTo>
                  <a:lnTo>
                    <a:pt x="790" y="1971"/>
                  </a:lnTo>
                  <a:close/>
                </a:path>
              </a:pathLst>
            </a:custGeom>
            <a:solidFill>
              <a:srgbClr val="0f6fc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Click to edit the title text format</a:t>
            </a:r>
            <a:endParaRPr b="1" lang="en-US" sz="3600" spc="-1" strike="noStrike">
              <a:solidFill>
                <a:srgbClr val="ffffff"/>
              </a:solidFill>
              <a:latin typeface="Georgia"/>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e8c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4cd4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33bdf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c48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13" name="PlaceHolder 3"/>
          <p:cNvSpPr>
            <a:spLocks noGrp="1"/>
          </p:cNvSpPr>
          <p:nvPr>
            <p:ph type="dt" idx="25"/>
          </p:nvPr>
        </p:nvSpPr>
        <p:spPr>
          <a:xfrm>
            <a:off x="914040" y="6537240"/>
            <a:ext cx="213372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26"/>
          </p:nvPr>
        </p:nvSpPr>
        <p:spPr>
          <a:xfrm>
            <a:off x="3124080" y="6537240"/>
            <a:ext cx="2895840" cy="24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27"/>
          </p:nvPr>
        </p:nvSpPr>
        <p:spPr>
          <a:xfrm>
            <a:off x="6552720" y="6537240"/>
            <a:ext cx="2133720" cy="247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910F-CEC6-45E2-B9A8-11DCA7E049E6}" type="slidenum">
              <a:rPr b="0" lang="ru-RU" sz="1200" spc="-1" strike="noStrike">
                <a:solidFill>
                  <a:srgbClr val="898989"/>
                </a:solidFill>
                <a:latin typeface="Georgi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6"/>
          <p:cNvSpPr/>
          <p:nvPr/>
        </p:nvSpPr>
        <p:spPr>
          <a:xfrm>
            <a:off x="941400" y="2349360"/>
            <a:ext cx="7920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ff"/>
                </a:solidFill>
                <a:latin typeface="Times New Roman"/>
                <a:ea typeface="Times New Roman"/>
              </a:rPr>
              <a:t>«Семь раз отмерь,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ff"/>
                </a:solidFill>
                <a:latin typeface="Times New Roman"/>
                <a:ea typeface="Times New Roman"/>
              </a:rPr>
              <a:t>один раз отрежь!»</a:t>
            </a:r>
            <a:endParaRPr b="0" lang="en-US" sz="6000" spc="-1" strike="noStrike">
              <a:solidFill>
                <a:srgbClr val="000000"/>
              </a:solidFill>
              <a:latin typeface="Arial"/>
            </a:endParaRPr>
          </a:p>
        </p:txBody>
      </p:sp>
      <p:sp>
        <p:nvSpPr>
          <p:cNvPr id="660" name="PlaceHolder 1"/>
          <p:cNvSpPr>
            <a:spLocks noGrp="1"/>
          </p:cNvSpPr>
          <p:nvPr>
            <p:ph type="subTitle"/>
          </p:nvPr>
        </p:nvSpPr>
        <p:spPr>
          <a:xfrm>
            <a:off x="914400" y="5486400"/>
            <a:ext cx="6400800" cy="666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2000" spc="-1" strike="noStrike">
              <a:solidFill>
                <a:srgbClr val="04617b"/>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http://optom-vse.ru.swtest.ru/tovimages/phplx02W1.jpg"/>
          <p:cNvPicPr/>
          <p:nvPr/>
        </p:nvPicPr>
        <p:blipFill>
          <a:blip r:embed="rId1"/>
          <a:stretch/>
        </p:blipFill>
        <p:spPr>
          <a:xfrm rot="18526200">
            <a:off x="-198360" y="2543040"/>
            <a:ext cx="3888000" cy="3887640"/>
          </a:xfrm>
          <a:prstGeom prst="rect">
            <a:avLst/>
          </a:prstGeom>
          <a:ln w="0">
            <a:noFill/>
          </a:ln>
        </p:spPr>
      </p:pic>
      <p:sp>
        <p:nvSpPr>
          <p:cNvPr id="662" name="TextBox 3"/>
          <p:cNvSpPr/>
          <p:nvPr/>
        </p:nvSpPr>
        <p:spPr>
          <a:xfrm>
            <a:off x="3297240" y="178596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b5395"/>
                </a:solidFill>
                <a:latin typeface="Times New Roman"/>
                <a:ea typeface="Times New Roman"/>
              </a:rPr>
              <a:t>Эта пословица предостерегает Вас от поспешности в решении зада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3" name="Заголовок 2" descr=""/>
          <p:cNvPicPr/>
          <p:nvPr/>
        </p:nvPicPr>
        <p:blipFill>
          <a:blip r:embed="rId2"/>
          <a:stretch/>
        </p:blipFill>
        <p:spPr>
          <a:xfrm>
            <a:off x="469800" y="262080"/>
            <a:ext cx="8229600" cy="161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Заголовок 2" descr=""/>
          <p:cNvPicPr/>
          <p:nvPr/>
        </p:nvPicPr>
        <p:blipFill>
          <a:blip r:embed="rId1"/>
          <a:stretch/>
        </p:blipFill>
        <p:spPr>
          <a:xfrm>
            <a:off x="457200" y="0"/>
            <a:ext cx="8229600" cy="1146240"/>
          </a:xfrm>
          <a:prstGeom prst="rect">
            <a:avLst/>
          </a:prstGeom>
          <a:ln w="0">
            <a:noFill/>
          </a:ln>
        </p:spPr>
      </p:pic>
      <p:pic>
        <p:nvPicPr>
          <p:cNvPr id="665" name="Объект 3" descr=""/>
          <p:cNvPicPr/>
          <p:nvPr/>
        </p:nvPicPr>
        <p:blipFill>
          <a:blip r:embed="rId2"/>
          <a:srcRect l="0" t="13566" r="0" b="27125"/>
          <a:stretch/>
        </p:blipFill>
        <p:spPr>
          <a:xfrm>
            <a:off x="1068480" y="1801800"/>
            <a:ext cx="70070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WordArt 4"/>
          <p:cNvSpPr txBox="1"/>
          <p:nvPr/>
        </p:nvSpPr>
        <p:spPr>
          <a:xfrm>
            <a:off x="179280" y="0"/>
            <a:ext cx="136836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Times New Roman"/>
              </a:rPr>
              <a:t>№</a:t>
            </a:r>
            <a:r>
              <a:rPr b="1" lang="en-US" sz="1800" spc="1" strike="noStrike">
                <a:ln w="9360">
                  <a:solidFill>
                    <a:srgbClr val="000000"/>
                  </a:solidFill>
                  <a:miter/>
                </a:ln>
                <a:solidFill>
                  <a:srgbClr val="ffffff"/>
                </a:solidFill>
                <a:latin typeface="Times New Roman"/>
              </a:rPr>
              <a:t>1</a:t>
            </a:r>
            <a:endParaRPr b="1" lang="en-US" sz="1800" spc="1" strike="noStrike">
              <a:ln w="9360">
                <a:solidFill>
                  <a:srgbClr val="000000"/>
                </a:solidFill>
                <a:miter/>
              </a:ln>
              <a:solidFill>
                <a:srgbClr val="ffffff"/>
              </a:solidFill>
              <a:latin typeface="Times New Roman"/>
              <a:ea typeface="Times New Roman"/>
            </a:endParaRPr>
          </a:p>
        </p:txBody>
      </p:sp>
      <p:sp>
        <p:nvSpPr>
          <p:cNvPr id="667" name="AutoShape 42">
            <a:hlinkClick r:id="" action="ppaction://hlinkshowjump?jump=nextslide"/>
          </p:cNvPr>
          <p:cNvSpPr/>
          <p:nvPr/>
        </p:nvSpPr>
        <p:spPr>
          <a:xfrm>
            <a:off x="395280" y="1773360"/>
            <a:ext cx="8353440" cy="4645080"/>
          </a:xfrm>
          <a:custGeom>
            <a:avLst/>
            <a:gdLst>
              <a:gd name="textAreaLeft" fmla="*/ 300960 w 8353440"/>
              <a:gd name="textAreaRight" fmla="*/ 8052480 w 8353440"/>
              <a:gd name="textAreaTop" fmla="*/ 300960 h 4645080"/>
              <a:gd name="textAreaBottom" fmla="*/ 4344120 h 4645080"/>
            </a:gdLst>
            <a:ahLst/>
            <a:rect l="textAreaLeft" t="textAreaTop" r="textAreaRight" b="textAreaBottom"/>
            <a:pathLst>
              <a:path w="38843" h="21600">
                <a:moveTo>
                  <a:pt x="0" y="0"/>
                </a:moveTo>
                <a:lnTo>
                  <a:pt x="38843" y="0"/>
                </a:lnTo>
                <a:lnTo>
                  <a:pt x="38843" y="21600"/>
                </a:lnTo>
                <a:lnTo>
                  <a:pt x="0" y="21600"/>
                </a:lnTo>
                <a:close/>
              </a:path>
              <a:path fill="lightenLess" w="38843" h="21600">
                <a:moveTo>
                  <a:pt x="0" y="0"/>
                </a:moveTo>
                <a:lnTo>
                  <a:pt x="38843" y="0"/>
                </a:lnTo>
                <a:lnTo>
                  <a:pt x="37443" y="1400"/>
                </a:lnTo>
                <a:lnTo>
                  <a:pt x="1400" y="1400"/>
                </a:lnTo>
                <a:close/>
              </a:path>
              <a:path fill="darken" w="38843" h="21600">
                <a:moveTo>
                  <a:pt x="38843" y="0"/>
                </a:moveTo>
                <a:lnTo>
                  <a:pt x="38843" y="21600"/>
                </a:lnTo>
                <a:lnTo>
                  <a:pt x="37443" y="20200"/>
                </a:lnTo>
                <a:lnTo>
                  <a:pt x="37443" y="1400"/>
                </a:lnTo>
                <a:close/>
              </a:path>
              <a:path fill="darkenLess" w="38843" h="21600">
                <a:moveTo>
                  <a:pt x="38843" y="21600"/>
                </a:moveTo>
                <a:lnTo>
                  <a:pt x="0" y="21600"/>
                </a:lnTo>
                <a:lnTo>
                  <a:pt x="1400" y="20200"/>
                </a:lnTo>
                <a:lnTo>
                  <a:pt x="37443" y="20200"/>
                </a:lnTo>
                <a:close/>
              </a:path>
              <a:path fill="lighten" w="38843" h="21600">
                <a:moveTo>
                  <a:pt x="0" y="21600"/>
                </a:moveTo>
                <a:lnTo>
                  <a:pt x="0" y="0"/>
                </a:lnTo>
                <a:lnTo>
                  <a:pt x="1400" y="1400"/>
                </a:lnTo>
                <a:lnTo>
                  <a:pt x="1400" y="20200"/>
                </a:lnTo>
                <a:close/>
              </a:path>
            </a:pathLst>
          </a:custGeom>
          <a:gradFill rotWithShape="0">
            <a:gsLst>
              <a:gs pos="0">
                <a:srgbClr val="85dfd0"/>
              </a:gs>
              <a:gs pos="50000">
                <a:srgbClr val="ffffff"/>
              </a:gs>
              <a:gs pos="100000">
                <a:srgbClr val="85dfd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44"/>
          <p:cNvSpPr/>
          <p:nvPr/>
        </p:nvSpPr>
        <p:spPr>
          <a:xfrm>
            <a:off x="2340000" y="162000"/>
            <a:ext cx="4464000" cy="936720"/>
          </a:xfrm>
          <a:prstGeom prst="verticalScroll">
            <a:avLst>
              <a:gd name="adj" fmla="val 12500"/>
            </a:avLst>
          </a:prstGeom>
          <a:gradFill rotWithShape="0">
            <a:gsLst>
              <a:gs pos="0">
                <a:srgbClr val="ffc993"/>
              </a:gs>
              <a:gs pos="50000">
                <a:srgbClr val="ffffff"/>
              </a:gs>
              <a:gs pos="100000">
                <a:srgbClr val="ffc99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ешение задач</a:t>
            </a:r>
            <a:endParaRPr b="0" lang="en-US" sz="3200" spc="-1" strike="noStrike">
              <a:solidFill>
                <a:srgbClr val="000000"/>
              </a:solidFill>
              <a:latin typeface="Arial"/>
            </a:endParaRPr>
          </a:p>
        </p:txBody>
      </p:sp>
      <p:pic>
        <p:nvPicPr>
          <p:cNvPr id="669" name="Рисунок 3" descr=""/>
          <p:cNvPicPr/>
          <p:nvPr/>
        </p:nvPicPr>
        <p:blipFill>
          <a:blip r:embed="rId1"/>
          <a:stretch/>
        </p:blipFill>
        <p:spPr>
          <a:xfrm>
            <a:off x="539640" y="1773360"/>
            <a:ext cx="8209080" cy="46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7"/>
          <p:cNvSpPr/>
          <p:nvPr/>
        </p:nvSpPr>
        <p:spPr>
          <a:xfrm>
            <a:off x="8532720" y="1700280"/>
            <a:ext cx="611280" cy="216000"/>
          </a:xfrm>
          <a:prstGeom prst="rect">
            <a:avLst/>
          </a:prstGeom>
          <a:solidFill>
            <a:srgbClr val="e8fb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1" name="Объект 5" descr=""/>
          <p:cNvPicPr/>
          <p:nvPr/>
        </p:nvPicPr>
        <p:blipFill>
          <a:blip r:embed="rId1"/>
          <a:stretch/>
        </p:blipFill>
        <p:spPr>
          <a:xfrm>
            <a:off x="324000" y="2637000"/>
            <a:ext cx="8569080" cy="1152360"/>
          </a:xfrm>
          <a:prstGeom prst="rect">
            <a:avLst/>
          </a:prstGeom>
          <a:ln w="0">
            <a:noFill/>
          </a:ln>
        </p:spPr>
      </p:pic>
      <p:pic>
        <p:nvPicPr>
          <p:cNvPr id="672" name="Заголовок 3" descr=""/>
          <p:cNvPicPr/>
          <p:nvPr/>
        </p:nvPicPr>
        <p:blipFill>
          <a:blip r:embed="rId2"/>
          <a:stretch/>
        </p:blipFill>
        <p:spPr>
          <a:xfrm>
            <a:off x="457200" y="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2640" y="5128920"/>
            <a:ext cx="72882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Georgia"/>
              </a:rPr>
              <a:t>РЕШЕНИЕ ЗАДАЧ </a:t>
            </a:r>
            <a:br>
              <a:rPr sz="4000"/>
            </a:br>
            <a:r>
              <a:rPr b="1" lang="ru-RU" sz="4000" spc="-1" strike="noStrike">
                <a:solidFill>
                  <a:srgbClr val="04617b"/>
                </a:solidFill>
                <a:latin typeface="Georgia"/>
              </a:rPr>
              <a:t>№2 И №3</a:t>
            </a:r>
            <a:endParaRPr b="1" lang="en-US" sz="4000" spc="-1" strike="noStrike">
              <a:solidFill>
                <a:srgbClr val="ffffff"/>
              </a:solidFill>
              <a:latin typeface="Georgia"/>
            </a:endParaRPr>
          </a:p>
        </p:txBody>
      </p:sp>
      <p:sp>
        <p:nvSpPr>
          <p:cNvPr id="674" name="PlaceHolder 2"/>
          <p:cNvSpPr>
            <a:spLocks noGrp="1"/>
          </p:cNvSpPr>
          <p:nvPr>
            <p:ph/>
          </p:nvPr>
        </p:nvSpPr>
        <p:spPr>
          <a:xfrm>
            <a:off x="684000" y="549000"/>
            <a:ext cx="7848360" cy="3600360"/>
          </a:xfrm>
          <a:prstGeom prst="rect">
            <a:avLst/>
          </a:prstGeom>
          <a:noFill/>
          <a:ln w="0">
            <a:noFill/>
          </a:ln>
        </p:spPr>
        <p:txBody>
          <a:bodyPr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eorgia"/>
              </a:rPr>
              <a:t>№</a:t>
            </a:r>
            <a:r>
              <a:rPr b="0" lang="ru-RU" sz="2000" spc="-1" strike="noStrike">
                <a:solidFill>
                  <a:srgbClr val="ffffff"/>
                </a:solidFill>
                <a:latin typeface="Georgia"/>
              </a:rPr>
              <a:t>2. Прямоугольник 3×4 содержит 12 клеток. Найдите пять способов разрезания прямоугольника на две равные части так, чтобы линия разреза шла по сторонам клеток (способы разрезания считаются различными, если части, полученные при одном способе разрезания, не равны частям, полученным при другом способе).</a:t>
            </a:r>
            <a:endParaRPr b="0" lang="en-US" sz="2000" spc="-1" strike="noStrike">
              <a:solidFill>
                <a:srgbClr val="000000"/>
              </a:solidFill>
              <a:latin typeface="Georgi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eorgia"/>
              </a:rPr>
              <a:t> </a:t>
            </a:r>
            <a:endParaRPr b="0" lang="en-US" sz="2000" spc="-1" strike="noStrike">
              <a:solidFill>
                <a:srgbClr val="000000"/>
              </a:solidFill>
              <a:latin typeface="Georgi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eorgia"/>
              </a:rPr>
              <a:t>№</a:t>
            </a:r>
            <a:r>
              <a:rPr b="0" lang="ru-RU" sz="2000" spc="-1" strike="noStrike">
                <a:solidFill>
                  <a:srgbClr val="ffffff"/>
                </a:solidFill>
                <a:latin typeface="Georgia"/>
              </a:rPr>
              <a:t>3. Прямоугольник 3 × 5 содержит 15 клеточек и центральная клетка удалена. Найдите пять способов разрезания оставшейся фигуры на две равные части так, чтобы линия разреза шла по сторонам клеток.</a:t>
            </a:r>
            <a:endParaRPr b="0" lang="en-US" sz="2000" spc="-1" strike="noStrike">
              <a:solidFill>
                <a:srgbClr val="000000"/>
              </a:solidFill>
              <a:latin typeface="Georg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Объект 3" descr=""/>
          <p:cNvPicPr/>
          <p:nvPr/>
        </p:nvPicPr>
        <p:blipFill>
          <a:blip r:embed="rId1"/>
          <a:stretch/>
        </p:blipFill>
        <p:spPr>
          <a:xfrm>
            <a:off x="1258920" y="2133720"/>
            <a:ext cx="7143840" cy="930240"/>
          </a:xfrm>
          <a:prstGeom prst="rect">
            <a:avLst/>
          </a:prstGeom>
          <a:ln w="0">
            <a:noFill/>
          </a:ln>
        </p:spPr>
      </p:pic>
      <p:pic>
        <p:nvPicPr>
          <p:cNvPr id="676" name="Заголовок 2" descr=""/>
          <p:cNvPicPr/>
          <p:nvPr/>
        </p:nvPicPr>
        <p:blipFill>
          <a:blip r:embed="rId2"/>
          <a:stretch/>
        </p:blipFill>
        <p:spPr>
          <a:xfrm>
            <a:off x="457200" y="0"/>
            <a:ext cx="8229600" cy="1146240"/>
          </a:xfrm>
          <a:prstGeom prst="rect">
            <a:avLst/>
          </a:prstGeom>
          <a:ln w="0">
            <a:noFill/>
          </a:ln>
        </p:spPr>
      </p:pic>
      <p:pic>
        <p:nvPicPr>
          <p:cNvPr id="677" name="Рисунок 4" descr=""/>
          <p:cNvPicPr/>
          <p:nvPr/>
        </p:nvPicPr>
        <p:blipFill>
          <a:blip r:embed="rId3"/>
          <a:stretch/>
        </p:blipFill>
        <p:spPr>
          <a:xfrm>
            <a:off x="928800" y="4052880"/>
            <a:ext cx="7473960" cy="81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Заголовок 3" descr=""/>
          <p:cNvPicPr/>
          <p:nvPr/>
        </p:nvPicPr>
        <p:blipFill>
          <a:blip r:embed="rId1"/>
          <a:stretch/>
        </p:blipFill>
        <p:spPr>
          <a:xfrm>
            <a:off x="622440" y="622440"/>
            <a:ext cx="7931160" cy="5748120"/>
          </a:xfrm>
          <a:prstGeom prst="rect">
            <a:avLst/>
          </a:prstGeom>
          <a:ln w="0">
            <a:noFill/>
          </a:ln>
        </p:spPr>
      </p:pic>
      <p:sp>
        <p:nvSpPr>
          <p:cNvPr id="679" name="PlaceHolder 1"/>
          <p:cNvSpPr>
            <a:spLocks noGrp="1"/>
          </p:cNvSpPr>
          <p:nvPr>
            <p:ph type="subTitle"/>
          </p:nvPr>
        </p:nvSpPr>
        <p:spPr>
          <a:xfrm>
            <a:off x="914400" y="5486400"/>
            <a:ext cx="6400800" cy="666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000" spc="-1" strike="noStrike">
              <a:solidFill>
                <a:srgbClr val="04617b"/>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3T09:44:27Z</dcterms:created>
  <dc:creator>Мама</dc:creator>
  <dc:description/>
  <dc:language>en-US</dc:language>
  <cp:lastModifiedBy>Минх ИЭ</cp:lastModifiedBy>
  <dcterms:modified xsi:type="dcterms:W3CDTF">2017-02-09T10:53:27Z</dcterms:modified>
  <cp:revision>24</cp:revision>
  <dc:subject/>
  <dc:title>Слайд 1</dc:title>
</cp:coreProperties>
</file>