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2896-6C3E-45FE-987A-D860ED4D4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80CE-7F96-4DFF-A498-A96C8206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E352-130B-45AC-9311-1BB51ED2F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C8A4-48F8-4B33-A122-09CEE0504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B34E-EA31-4097-97FC-82AB94029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8B87-C80E-452F-86EB-F32D8A4D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96A2-8753-4A13-9988-7E58D4E5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FEF3-6ADE-4950-AEF1-11FE2ECF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CA9C4-618D-4726-B728-E2F24711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D437-F92A-4AFE-957F-8F64DE58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AB66-A203-45AC-A140-D56FB9BC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8AFB-7E0C-4645-82DD-B74AD00F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9970-A4C2-4BC9-9139-2F1D07D5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CBE0-EB93-4665-B25F-4AB95B32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3E69-ABBF-4F31-89A1-D6022CCF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86DC-13A2-43E4-9E32-26466813B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95A2-BB01-4BE8-9547-F544175F5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8C70-7638-4669-B957-2CBDE1D0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4399-C99A-4500-A933-F91EA8BC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9441-0928-4113-97BE-86B1F670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8D08-B6DE-4C27-AB80-357182D4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EE9C-A661-41AB-B3E8-67C3380A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454C-E76D-482F-8F4A-E3F72303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1EB5-153B-4C55-B6AD-98BB7B11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884A-7FFF-4731-9E28-A25C8DD2635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27CB-4693-40A3-ADA8-68C74B13184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omputer games: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pros and corn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The aim of this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sson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i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find out and to discuss if it is good or bad to play computer gam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The objectives of the project are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to get to know the importance of computer games for children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to learn the types of computer games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to know the rules or proper playing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Research method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sociological survey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studying of scientific articles and litera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analysis and systematization of the received d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4T08:37:57Z</dcterms:created>
  <dc:creator>алек</dc:creator>
  <dc:description/>
  <dc:language>en-US</dc:language>
  <cp:lastModifiedBy>алек</cp:lastModifiedBy>
  <dcterms:modified xsi:type="dcterms:W3CDTF">2022-03-24T08:54:1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