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728A-BC81-4AF7-8A4A-CBBF96134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BC89-F73D-4CC3-B079-D0387A139A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у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53BF-2143-461D-9BCE-2116B424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0EA-2B21-43F8-9BB1-A8F5A6DE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2375-B9B0-49D8-856C-3846E9A7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6C3-1FE0-4F4F-ABD8-0408B893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BFE-368D-4A3A-B9ED-022FB2EB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31A-E940-4DEC-8640-771A19C4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AAB-A4B1-4FBC-B54B-864D85A5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BFE-C474-44A6-9553-B2E14419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97C-594A-4706-97FE-E97BD6E2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16E-84AE-47D3-804A-3EED4DAC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9DE7-AF27-4516-98EE-E773431C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F46-DD00-4404-B7AB-C85D8D41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3616-15C8-4C25-B33F-2AC804D045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19_1"/>
          <p:cNvPicPr/>
          <p:nvPr/>
        </p:nvPicPr>
        <p:blipFill>
          <a:blip r:embed="rId1"/>
          <a:stretch/>
        </p:blipFill>
        <p:spPr>
          <a:xfrm>
            <a:off x="428760" y="1643040"/>
            <a:ext cx="8388360" cy="5214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Защита детей </a:t>
            </a:r>
            <a:br>
              <a:rPr sz="4800"/>
            </a:b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от жестокого обращ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79280" y="119700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тсутствие заботы о детях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(пренебрежение основными потребностями ребенка) – невнимание к основным нуждам ребенка в пище, одежде, медицинском обслуживании, присмот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79280" y="220500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лияние  на ребен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растет, не набирает  подходящего веса или теряет ве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ок брошен, находится без присмотра, не имеет подходящей одежды, жилищ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прививок, нуждается в услугах зубного врача, плохая гигиена кожи, запущенное состояние детей(педикулез, дистроф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ходит в школу, прогуливает уроки, приходит на занятия слишком рано и уходит из школы слишком позд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ет, апатичен, имеет отклонения в повед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2" descr="http://gimn6tih.by.ru/images/zn1539/33.jpg"/>
          <p:cNvPicPr/>
          <p:nvPr/>
        </p:nvPicPr>
        <p:blipFill>
          <a:blip r:embed="rId1"/>
          <a:stretch/>
        </p:blipFill>
        <p:spPr>
          <a:xfrm>
            <a:off x="5181480" y="3790800"/>
            <a:ext cx="3962520" cy="30672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7"/>
          <p:cNvSpPr txBox="1"/>
          <p:nvPr/>
        </p:nvSpPr>
        <p:spPr>
          <a:xfrm>
            <a:off x="1332000" y="189000"/>
            <a:ext cx="6840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братите внимание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09" descr="http://lol54.ru/uploads/posts/2009-09/1253026557_7.jpg"/>
          <p:cNvPicPr/>
          <p:nvPr/>
        </p:nvPicPr>
        <p:blipFill>
          <a:blip r:embed="rId1"/>
          <a:stretch/>
        </p:blipFill>
        <p:spPr>
          <a:xfrm>
            <a:off x="0" y="0"/>
            <a:ext cx="4772160" cy="35719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12" descr="http://vo.od.ua/images/article/080222-0351-2741.jpg"/>
          <p:cNvPicPr/>
          <p:nvPr/>
        </p:nvPicPr>
        <p:blipFill>
          <a:blip r:embed="rId2"/>
          <a:stretch/>
        </p:blipFill>
        <p:spPr>
          <a:xfrm>
            <a:off x="4788000" y="0"/>
            <a:ext cx="4356000" cy="3486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00" descr="http://www.rusk.ru/images/2008/13200.jpg"/>
          <p:cNvPicPr/>
          <p:nvPr/>
        </p:nvPicPr>
        <p:blipFill>
          <a:blip r:embed="rId3"/>
          <a:stretch/>
        </p:blipFill>
        <p:spPr>
          <a:xfrm>
            <a:off x="0" y="3573360"/>
            <a:ext cx="4356000" cy="33102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97" descr="http://www.mk.ru/upload/iblock/113/p-13-1.jpg"/>
          <p:cNvPicPr/>
          <p:nvPr/>
        </p:nvPicPr>
        <p:blipFill>
          <a:blip r:embed="rId4"/>
          <a:stretch/>
        </p:blipFill>
        <p:spPr>
          <a:xfrm>
            <a:off x="4140360" y="3500280"/>
            <a:ext cx="500364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179280" y="0"/>
            <a:ext cx="896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сихическое  насили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эмоционально дурное обращение с детьм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винения в адрес ребенка (брань, кри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жение его успехов, унижение его достоин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ржение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тельное лишение  ребенка любви, нежности, заботы и безопасности со стороны роди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уждение к одиночест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ие в присутствии ребенка насилия  по отношению к супругу или другим дет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ение  боли домашним животным с целью запугать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4284720" y="3500280"/>
            <a:ext cx="4859280" cy="2881440"/>
          </a:xfrm>
          <a:prstGeom prst="wedgeEllipseCallout">
            <a:avLst>
              <a:gd name="adj1" fmla="val -43888"/>
              <a:gd name="adj2" fmla="val 58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8" descr="http://un.by/ii/11_udhr.jpg"/>
          <p:cNvPicPr/>
          <p:nvPr/>
        </p:nvPicPr>
        <p:blipFill>
          <a:blip r:embed="rId1"/>
          <a:srcRect l="0" t="48857" r="0" b="0"/>
          <a:stretch/>
        </p:blipFill>
        <p:spPr>
          <a:xfrm>
            <a:off x="5076720" y="3860640"/>
            <a:ext cx="3257640" cy="2060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9"/>
          <p:cNvSpPr/>
          <p:nvPr/>
        </p:nvSpPr>
        <p:spPr>
          <a:xfrm>
            <a:off x="0" y="3429000"/>
            <a:ext cx="4140360" cy="3024360"/>
          </a:xfrm>
          <a:prstGeom prst="wedgeEllipseCallout">
            <a:avLst>
              <a:gd name="adj1" fmla="val 46013"/>
              <a:gd name="adj2" fmla="val 5173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28" descr="http://un.by/ii/11_udhr.jpg"/>
          <p:cNvPicPr/>
          <p:nvPr/>
        </p:nvPicPr>
        <p:blipFill>
          <a:blip r:embed="rId2"/>
          <a:srcRect l="0" t="0" r="0" b="51739"/>
          <a:stretch/>
        </p:blipFill>
        <p:spPr>
          <a:xfrm>
            <a:off x="395280" y="3933720"/>
            <a:ext cx="3257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324000" y="476280"/>
            <a:ext cx="453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ексуальное насилие над деть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й контакт или взаимодействие, в котором  ребенок сексуально стимулируется или используется для сексуальной стиму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лияние на ребен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наруживает странные (причудливые), слишком сложные или необычные  сексуальные познания или 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сексуально приставать к детям, подросткам, взросл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жаловаться на зуд, воспаление, боль в области генитал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жаловаться на физическое нездоровь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вочка может заберемене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леть болезнями полового характера, скрывать свой секрет из-за угроз или беспо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106" descr="http://www.dosomething.org/files/imagecache/500_either_way/files/project_photos/homeless_child.jpg"/>
          <p:cNvPicPr/>
          <p:nvPr/>
        </p:nvPicPr>
        <p:blipFill>
          <a:blip r:embed="rId1"/>
          <a:stretch/>
        </p:blipFill>
        <p:spPr>
          <a:xfrm rot="20340600">
            <a:off x="5076720" y="-171000"/>
            <a:ext cx="3264120" cy="45464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27" descr="http://dobro-ludyam.do.am/_nw/0/95800.jpg"/>
          <p:cNvPicPr/>
          <p:nvPr/>
        </p:nvPicPr>
        <p:blipFill>
          <a:blip r:embed="rId2"/>
          <a:stretch/>
        </p:blipFill>
        <p:spPr>
          <a:xfrm>
            <a:off x="5111640" y="4159080"/>
            <a:ext cx="40323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31" descr="http://keep4u.ru/imgs/b/070610/5859427784c5de7998.jpg"/>
          <p:cNvPicPr/>
          <p:nvPr/>
        </p:nvPicPr>
        <p:blipFill>
          <a:blip r:embed="rId1"/>
          <a:stretch/>
        </p:blipFill>
        <p:spPr>
          <a:xfrm>
            <a:off x="0" y="0"/>
            <a:ext cx="5934240" cy="4457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4" descr="http://images.zone-x.ru/154/551461.jpg"/>
          <p:cNvPicPr/>
          <p:nvPr/>
        </p:nvPicPr>
        <p:blipFill>
          <a:blip r:embed="rId2"/>
          <a:stretch/>
        </p:blipFill>
        <p:spPr>
          <a:xfrm>
            <a:off x="5940360" y="0"/>
            <a:ext cx="3168720" cy="44370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3" descr="http://adfest.by/i/photo/competition/thumbs/cf51131.jpg.jpg"/>
          <p:cNvPicPr/>
          <p:nvPr/>
        </p:nvPicPr>
        <p:blipFill>
          <a:blip r:embed="rId3"/>
          <a:stretch/>
        </p:blipFill>
        <p:spPr>
          <a:xfrm>
            <a:off x="0" y="4437000"/>
            <a:ext cx="1712880" cy="2421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52" descr="http://medportal.ru/common/18090956.jpg"/>
          <p:cNvPicPr/>
          <p:nvPr/>
        </p:nvPicPr>
        <p:blipFill>
          <a:blip r:embed="rId4"/>
          <a:stretch/>
        </p:blipFill>
        <p:spPr>
          <a:xfrm>
            <a:off x="1692360" y="442908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67" descr="http://newsorsk.ru/Kartinki/nasilie_thumb.jpg"/>
          <p:cNvPicPr/>
          <p:nvPr/>
        </p:nvPicPr>
        <p:blipFill>
          <a:blip r:embed="rId5"/>
          <a:stretch/>
        </p:blipFill>
        <p:spPr>
          <a:xfrm>
            <a:off x="6084720" y="4437000"/>
            <a:ext cx="3059280" cy="2448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15" descr="http://www.openoren.ru/content/Image/image1486.jpg"/>
          <p:cNvPicPr/>
          <p:nvPr/>
        </p:nvPicPr>
        <p:blipFill>
          <a:blip r:embed="rId6"/>
          <a:stretch/>
        </p:blipFill>
        <p:spPr>
          <a:xfrm>
            <a:off x="4427640" y="4427640"/>
            <a:ext cx="180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50920" y="765000"/>
            <a:ext cx="86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Административная ответственность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лица, допустившие пренебрежение основными потребностями  ребенка, не исполняющие обязанности по содержанию и воспитанию несовершеннолетних, подлежат административной ответственности в соответствии с кодексом Российской Федерации (ст.5.35). Рассмотрение дел по указанной статье относится к компетенции КДН и защите их пра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611280" y="458136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2" descr="http://gimn6tih.by.ru/images/zn1539/33.jpg"/>
          <p:cNvPicPr/>
          <p:nvPr/>
        </p:nvPicPr>
        <p:blipFill>
          <a:blip r:embed="rId1"/>
          <a:stretch/>
        </p:blipFill>
        <p:spPr>
          <a:xfrm>
            <a:off x="7885080" y="260280"/>
            <a:ext cx="1258920" cy="974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179280" y="518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ы ответственности лиц, допускающих жестокое обращение с детьми, в соответствии с российским законодатель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79280" y="249228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Уголовная ответственнос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- Российское уголовное законодательство предусматривает ответственность лиц за все виды насилия над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79280" y="314172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Гражданско-правовая ответственнос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естокое обращение  с ребенком может послужить основанием  для привлечения родителей(лиц, их заменяющих) к ответственности в соответствии с семейным законодатель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79280" y="429264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ример :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ишение родительских прав (ст.69 СК Российской  Федерации), ограничение родительских прав (ст.73 СК Российской Федерации), отобрание ребенка при непосредственной угрозе жизни ребенка и его здоровью (ст.77 СК Российской Федераци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79280" y="544500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Дисциплинарной ответственности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гут быть  подвергнуты должностные лица, в чьи обязанности входит обеспечение воспитания, содержания и обучения детей, допустившие сокрытие или оставление без внимания фактов  жестокого обращения с дет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79280" y="549360"/>
            <a:ext cx="8675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 случае выявления явных признаков жестокого обращения с ребенк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медленно сообщить  директору школы о выявленном случа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уководитель образовательного учреждения немедленно сообщает по телефону (затем в течении дня направляет письменную информацию) о выявленном факте жестокого обращения  с ребенком  в органы опеки и попечительства для проведения  обследования условий  жизни и воспитани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пециалист по охране прав детства совместно  с социальным педагогом, сотрудником ОВД (при необходимости) незамедлительно  проводит обследование условий жизни  и воспитания ребенка, по результатам которого составляется акт обследования, по итогам проведенных мероприятий директор немедленно направляет в правоохранительные органы информацию о выявлении признаков жестокого обращения с ребенком, зафиксировав номер исходящего сообщения (форма – приложение № 1), прикрепив акт обследования условий жизни и воспитания ребенка, оставив копию сообщений и прилагаемых материалов  в документах дело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уководитель образовательного учреждения  направляет информацию по факту в КДН, зафиксировав номер исходящего   сообщения (форма приложения № 2), оставив  копии материалов  в делопроизвод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611280" y="458136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2" descr="http://gimn6tih.by.ru/images/zn1539/33.jpg"/>
          <p:cNvPicPr/>
          <p:nvPr/>
        </p:nvPicPr>
        <p:blipFill>
          <a:blip r:embed="rId1"/>
          <a:stretch/>
        </p:blipFill>
        <p:spPr>
          <a:xfrm>
            <a:off x="7524720" y="260280"/>
            <a:ext cx="1619280" cy="12542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179280" y="18828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Действия сотрудников образовательных учреж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1235026741_c36e61b0afc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7"/>
          <p:cNvSpPr txBox="1"/>
          <p:nvPr/>
        </p:nvSpPr>
        <p:spPr>
          <a:xfrm>
            <a:off x="3995640" y="189000"/>
            <a:ext cx="32576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3924360" y="1700280"/>
            <a:ext cx="424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я семья невел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ри человека в 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па, мама, да и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едь вместе вес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ивем мы дру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се втро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 ссоры, нет об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ы сядем вместе в само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море уле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апа -Т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ма - 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- М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месте - три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т и вся моя сем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на мне очень дорога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!!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RAM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10"/>
          <p:cNvSpPr txBox="1"/>
          <p:nvPr/>
        </p:nvSpPr>
        <p:spPr>
          <a:xfrm>
            <a:off x="1332000" y="981000"/>
            <a:ext cx="3095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ступл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2" name="Picture 12" descr="1236896275_tema-nasilie3"/>
          <p:cNvPicPr/>
          <p:nvPr/>
        </p:nvPicPr>
        <p:blipFill>
          <a:blip r:embed="rId2"/>
          <a:stretch/>
        </p:blipFill>
        <p:spPr>
          <a:xfrm rot="21088200">
            <a:off x="1331640" y="1773000"/>
            <a:ext cx="381456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94" descr="http://mkamala-sosh5.narod.ru/images/inter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 rot="20878800">
            <a:off x="1763280" y="836280"/>
            <a:ext cx="5183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емейного насилия в России, да и во всем мире представляет пока малоисследованную сферу. В тоже время по данным Центра социальной и судебной психиатрии им. Сербского, жестокое обращение в семье испытывают в свыше 30% российских детей в возрасте от 5 до 7 лет, 60-70% из них затем отстают в развитии, страдают физическими и психо-эмоциональными расстройствами. По разным данным, ежегодно в России около миллиона детей 4-14 лет страдают от побоев в семье, более 50 тысяч из них в течение года сбегают из дома, спасаясь от побо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 rot="20899200">
            <a:off x="971280" y="620280"/>
            <a:ext cx="343836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много статист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7" name="Picture 8" descr="1236896275_tema-nasilie3"/>
          <p:cNvPicPr/>
          <p:nvPr/>
        </p:nvPicPr>
        <p:blipFill>
          <a:blip r:embed="rId2"/>
          <a:stretch/>
        </p:blipFill>
        <p:spPr>
          <a:xfrm rot="3073200">
            <a:off x="6798960" y="193320"/>
            <a:ext cx="2951280" cy="2077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 rot="20151600">
            <a:off x="684360" y="3068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 rot="1549800">
            <a:off x="0" y="1413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11280" y="4221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0" y="62164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84360" y="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028000" y="3284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 rot="1549800">
            <a:off x="468000" y="537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7"/>
          <p:cNvSpPr/>
          <p:nvPr/>
        </p:nvSpPr>
        <p:spPr>
          <a:xfrm rot="1549800">
            <a:off x="8604000" y="299736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 rot="1549800">
            <a:off x="647280" y="2060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 rot="1549800">
            <a:off x="0" y="3500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 rot="1549800">
            <a:off x="1402920" y="595008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 rot="1549800">
            <a:off x="8172000" y="4797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 rot="1549800">
            <a:off x="-181080" y="2205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 rot="20706600">
            <a:off x="2700360" y="-3204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4"/>
          <p:cNvSpPr/>
          <p:nvPr/>
        </p:nvSpPr>
        <p:spPr>
          <a:xfrm rot="1549800">
            <a:off x="5724000" y="65372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2700360" y="476280"/>
            <a:ext cx="568944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нятия и фор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жесткого обраще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 детьми и влияние на реб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4" name="AutoShape 8"/>
          <p:cNvSpPr/>
          <p:nvPr/>
        </p:nvSpPr>
        <p:spPr>
          <a:xfrm rot="3261600">
            <a:off x="575280" y="583200"/>
            <a:ext cx="1582920" cy="2232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67" descr="http://newsorsk.ru/Kartinki/nasilie_thumb.jpg"/>
          <p:cNvPicPr/>
          <p:nvPr/>
        </p:nvPicPr>
        <p:blipFill>
          <a:blip r:embed="rId1">
            <a:lum bright="48000"/>
          </a:blip>
          <a:srcRect l="0" t="18915" r="33469" b="0"/>
          <a:stretch/>
        </p:blipFill>
        <p:spPr>
          <a:xfrm>
            <a:off x="5614920" y="3141720"/>
            <a:ext cx="3529080" cy="34401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1"/>
          <p:cNvSpPr/>
          <p:nvPr/>
        </p:nvSpPr>
        <p:spPr>
          <a:xfrm>
            <a:off x="611280" y="3284640"/>
            <a:ext cx="81360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Жестокое обращение с деть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ия ( или бездействия) родителей, воспитателей и других лиц, наносящие ущерб физическому или психическому здоровью ребенка.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(ПРИЛОЖЕНИЕ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574560" y="4653000"/>
            <a:ext cx="85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Насилие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юбая форма взаимоотношений, направленная на установление или удержание контроля силой над другим человеком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Organization Chart 6"/>
          <p:cNvGrpSpPr/>
          <p:nvPr/>
        </p:nvGrpSpPr>
        <p:grpSpPr>
          <a:xfrm>
            <a:off x="826920" y="260280"/>
            <a:ext cx="7859160" cy="3027960"/>
            <a:chOff x="826920" y="260280"/>
            <a:chExt cx="7859160" cy="3027960"/>
          </a:xfrm>
        </p:grpSpPr>
        <p:cxnSp>
          <p:nvCxnSpPr>
            <p:cNvPr id="79" name="_s1028"/>
            <p:cNvCxnSpPr>
              <a:stCxn id="80" idx="0"/>
              <a:endCxn id="81" idx="2"/>
            </p:cNvCxnSpPr>
            <p:nvPr/>
          </p:nvCxnSpPr>
          <p:spPr>
            <a:xfrm flipV="1" rot="16200000">
              <a:off x="5828760" y="398160"/>
              <a:ext cx="606240" cy="2751480"/>
            </a:xfrm>
            <a:prstGeom prst="bentConnector3">
              <a:avLst>
                <a:gd name="adj1" fmla="val 209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1029"/>
            <p:cNvCxnSpPr>
              <a:stCxn id="83" idx="0"/>
              <a:endCxn id="81" idx="2"/>
            </p:cNvCxnSpPr>
            <p:nvPr/>
          </p:nvCxnSpPr>
          <p:spPr>
            <a:xfrm flipV="1">
              <a:off x="4756680" y="1470960"/>
              <a:ext cx="2880" cy="606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1030"/>
            <p:cNvCxnSpPr>
              <a:stCxn id="85" idx="0"/>
              <a:endCxn id="81" idx="2"/>
            </p:cNvCxnSpPr>
            <p:nvPr/>
          </p:nvCxnSpPr>
          <p:spPr>
            <a:xfrm flipH="1" flipV="1" rot="5400000">
              <a:off x="3077640" y="398160"/>
              <a:ext cx="606240" cy="2751480"/>
            </a:xfrm>
            <a:prstGeom prst="bentConnector3">
              <a:avLst>
                <a:gd name="adj1" fmla="val 209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1" name="_s1031"/>
            <p:cNvSpPr/>
            <p:nvPr/>
          </p:nvSpPr>
          <p:spPr>
            <a:xfrm>
              <a:off x="3577680" y="260280"/>
              <a:ext cx="2357640" cy="121104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Жестоко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обраще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2"/>
            <p:cNvSpPr/>
            <p:nvPr/>
          </p:nvSpPr>
          <p:spPr>
            <a:xfrm>
              <a:off x="826920" y="2077200"/>
              <a:ext cx="2357640" cy="1211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Физическ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33"/>
            <p:cNvSpPr/>
            <p:nvPr/>
          </p:nvSpPr>
          <p:spPr>
            <a:xfrm>
              <a:off x="3577680" y="2077200"/>
              <a:ext cx="2357640" cy="1211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ексуа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4"/>
            <p:cNvSpPr/>
            <p:nvPr/>
          </p:nvSpPr>
          <p:spPr>
            <a:xfrm>
              <a:off x="6328440" y="2077200"/>
              <a:ext cx="2357640" cy="1211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сихическ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5"/>
          <p:cNvSpPr/>
          <p:nvPr/>
        </p:nvSpPr>
        <p:spPr>
          <a:xfrm>
            <a:off x="468360" y="260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ЛОЖЕНИЕ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" descr="http://gazeta.aif.ru/data/mags/orel/717/pics/03_01_00.jpg"/>
          <p:cNvPicPr/>
          <p:nvPr/>
        </p:nvPicPr>
        <p:blipFill>
          <a:blip r:embed="rId1"/>
          <a:stretch/>
        </p:blipFill>
        <p:spPr>
          <a:xfrm>
            <a:off x="0" y="3429000"/>
            <a:ext cx="3889440" cy="25923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6" descr="http://topatun.ru/files/nasilie_deti.jpg"/>
          <p:cNvPicPr/>
          <p:nvPr/>
        </p:nvPicPr>
        <p:blipFill>
          <a:blip r:embed="rId2"/>
          <a:stretch/>
        </p:blipFill>
        <p:spPr>
          <a:xfrm>
            <a:off x="2556000" y="4533840"/>
            <a:ext cx="1904760" cy="23241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http://rg.foto.radikal.ru/0707/95/95768b4e02fb.jpg"/>
          <p:cNvPicPr/>
          <p:nvPr/>
        </p:nvPicPr>
        <p:blipFill>
          <a:blip r:embed="rId3"/>
          <a:stretch/>
        </p:blipFill>
        <p:spPr>
          <a:xfrm>
            <a:off x="6119640" y="4594320"/>
            <a:ext cx="3024360" cy="22636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3" descr="http://www.xit.az/uploads/posts/2009-09/1254216544_remenj.jpg"/>
          <p:cNvPicPr/>
          <p:nvPr/>
        </p:nvPicPr>
        <p:blipFill>
          <a:blip r:embed="rId4"/>
          <a:stretch/>
        </p:blipFill>
        <p:spPr>
          <a:xfrm>
            <a:off x="4356000" y="3357720"/>
            <a:ext cx="259236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250920" y="404640"/>
            <a:ext cx="8642160" cy="619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0"/>
          <p:cNvSpPr txBox="1"/>
          <p:nvPr/>
        </p:nvSpPr>
        <p:spPr>
          <a:xfrm>
            <a:off x="395280" y="620640"/>
            <a:ext cx="3720960" cy="91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ормы насил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324000" y="2781360"/>
            <a:ext cx="525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лияние физического насилия на ребен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  Поведенческие и психологические индика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держка развития, малоподвиж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грессивность, тревожность,  могут быть необычайно стеснительными, любопытными, избегать сверстников, бояться  взрослых и  играть только с малышами, а не со сверстник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рах физического  контакта, боязнь идти домой, тревога, когда плачут другие дети, тики, сосание пальцев, раскач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4572000" y="765000"/>
            <a:ext cx="3457440" cy="4680000"/>
          </a:xfrm>
          <a:prstGeom prst="lightningBol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250920" y="1557360"/>
            <a:ext cx="867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ff"/>
                </a:solidFill>
                <a:uFillTx/>
                <a:latin typeface="Arial"/>
              </a:rPr>
              <a:t>Физическое насилие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йствие (бездействие) со стороны родителей или других взрослых, в результате которых физическое и  умственное здоровье ребенка нарушается  или находится под угрозой  пов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5435640" y="3357720"/>
            <a:ext cx="3384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знаки физического насилия над ребенк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ны и синя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ж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ку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синдром тряски ребе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0" descr="http://img.adme.ru/files/paedia/print/part_32/323411/preview_600_4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9" descr="http://www.shianet.ru/upload/information_items_123070808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03:05:33Z</dcterms:created>
  <dc:creator>Иван</dc:creator>
  <dc:description/>
  <dc:language>en-US</dc:language>
  <cp:lastModifiedBy>Гимназия1</cp:lastModifiedBy>
  <dcterms:modified xsi:type="dcterms:W3CDTF">2011-04-06T03:12:34Z</dcterms:modified>
  <cp:revision>11</cp:revision>
  <dc:subject/>
  <dc:title>Слайд 1</dc:title>
</cp:coreProperties>
</file>